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0BF0A-E36F-4B13-9675-65A3EE99D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95B5D-CE43-45C5-9DB3-28DEE7CAC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A072A-A05A-4562-B33E-721684AFF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3F933-BB81-415B-992A-62D4C25A3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C115E-C176-4232-9273-94B22AE8A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D0150-AE05-4D64-BC6F-BFCC8E791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D9C9D-E301-45F4-8F3C-985738F7D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F3506-98EC-490F-894A-2335FDCC5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08F0B-63D0-4CFA-B11F-F980413D9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99A2E-CC18-48C9-8B5F-8798D2985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594F8-C4FF-449C-8776-E3D2783F7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FEFD0-5C71-4A1A-AC93-12FE6CAE3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882D6-8CE8-4797-8D64-9368C567E4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8.xml"/><Relationship Id="rId3" Type="http://schemas.openxmlformats.org/officeDocument/2006/relationships/slide" Target="slide13.xml"/><Relationship Id="rId4" Type="http://schemas.openxmlformats.org/officeDocument/2006/relationships/slide" Target="slide18.xml"/><Relationship Id="rId5" Type="http://schemas.openxmlformats.org/officeDocument/2006/relationships/slide" Target="slide23.xml"/><Relationship Id="rId6" Type="http://schemas.openxmlformats.org/officeDocument/2006/relationships/slide" Target="slide4.xml"/><Relationship Id="rId7" Type="http://schemas.openxmlformats.org/officeDocument/2006/relationships/slide" Target="slide9.xml"/><Relationship Id="rId8" Type="http://schemas.openxmlformats.org/officeDocument/2006/relationships/slide" Target="slide14.xml"/><Relationship Id="rId9" Type="http://schemas.openxmlformats.org/officeDocument/2006/relationships/slide" Target="slide19.xml"/><Relationship Id="rId10" Type="http://schemas.openxmlformats.org/officeDocument/2006/relationships/slide" Target="slide24.xml"/><Relationship Id="rId11" Type="http://schemas.openxmlformats.org/officeDocument/2006/relationships/slide" Target="slide5.xml"/><Relationship Id="rId12" Type="http://schemas.openxmlformats.org/officeDocument/2006/relationships/slide" Target="slide10.xml"/><Relationship Id="rId13" Type="http://schemas.openxmlformats.org/officeDocument/2006/relationships/slide" Target="slide15.xml"/><Relationship Id="rId14" Type="http://schemas.openxmlformats.org/officeDocument/2006/relationships/slide" Target="slide27.xml"/><Relationship Id="rId1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Cell Review 1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120" y="3886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Times New Roman"/>
              </a:rPr>
              <a:t>JEOPARDY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7880" y="646128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2C06 Jeopardy Revie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animl cell" descr=""/>
          <p:cNvPicPr/>
          <p:nvPr/>
        </p:nvPicPr>
        <p:blipFill>
          <a:blip r:embed="rId1"/>
          <a:stretch/>
        </p:blipFill>
        <p:spPr>
          <a:xfrm>
            <a:off x="3048120" y="1828800"/>
            <a:ext cx="2590560" cy="18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Vocabulary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3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>
            <a:hlinkClick r:id="" action="ppaction://hlinkshowjump?jump=previousslide"/>
          </p:cNvPr>
          <p:cNvSpPr/>
          <p:nvPr/>
        </p:nvSpPr>
        <p:spPr>
          <a:xfrm>
            <a:off x="8380440" y="6243480"/>
            <a:ext cx="762120" cy="60984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6990" h="21600">
                <a:moveTo>
                  <a:pt x="0" y="0"/>
                </a:moveTo>
                <a:lnTo>
                  <a:pt x="26990" y="0"/>
                </a:lnTo>
                <a:lnTo>
                  <a:pt x="26990" y="21600"/>
                </a:lnTo>
                <a:lnTo>
                  <a:pt x="0" y="21600"/>
                </a:lnTo>
                <a:close/>
              </a:path>
              <a:path fill="lightenLess" w="26990" h="21600">
                <a:moveTo>
                  <a:pt x="0" y="0"/>
                </a:moveTo>
                <a:lnTo>
                  <a:pt x="26990" y="0"/>
                </a:lnTo>
                <a:lnTo>
                  <a:pt x="25590" y="1400"/>
                </a:lnTo>
                <a:lnTo>
                  <a:pt x="1400" y="1400"/>
                </a:lnTo>
                <a:close/>
              </a:path>
              <a:path fill="darken" w="26990" h="21600">
                <a:moveTo>
                  <a:pt x="26990" y="0"/>
                </a:moveTo>
                <a:lnTo>
                  <a:pt x="26990" y="21600"/>
                </a:lnTo>
                <a:lnTo>
                  <a:pt x="25590" y="20200"/>
                </a:lnTo>
                <a:lnTo>
                  <a:pt x="25590" y="1400"/>
                </a:lnTo>
                <a:close/>
              </a:path>
              <a:path fill="darkenLess" w="26990" h="21600">
                <a:moveTo>
                  <a:pt x="269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0" y="20200"/>
                </a:lnTo>
                <a:close/>
              </a:path>
              <a:path fill="lighten" w="269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90" h="21600">
                <a:moveTo>
                  <a:pt x="6489" y="7493"/>
                </a:moveTo>
                <a:lnTo>
                  <a:pt x="9996" y="7493"/>
                </a:lnTo>
                <a:lnTo>
                  <a:pt x="9996" y="12828"/>
                </a:lnTo>
                <a:cubicBezTo>
                  <a:pt x="9996" y="13751"/>
                  <a:pt x="10797" y="14482"/>
                  <a:pt x="11833" y="14482"/>
                </a:cubicBezTo>
                <a:lnTo>
                  <a:pt x="13495" y="14482"/>
                </a:lnTo>
                <a:cubicBezTo>
                  <a:pt x="14531" y="14482"/>
                  <a:pt x="15332" y="13751"/>
                  <a:pt x="15332" y="12828"/>
                </a:cubicBezTo>
                <a:lnTo>
                  <a:pt x="15332" y="7493"/>
                </a:lnTo>
                <a:lnTo>
                  <a:pt x="13495" y="7493"/>
                </a:lnTo>
                <a:lnTo>
                  <a:pt x="17003" y="3985"/>
                </a:lnTo>
                <a:lnTo>
                  <a:pt x="20676" y="7493"/>
                </a:lnTo>
                <a:lnTo>
                  <a:pt x="18839" y="7493"/>
                </a:lnTo>
                <a:lnTo>
                  <a:pt x="18839" y="12828"/>
                </a:lnTo>
                <a:cubicBezTo>
                  <a:pt x="18839" y="15596"/>
                  <a:pt x="16263" y="18155"/>
                  <a:pt x="13495" y="18155"/>
                </a:cubicBezTo>
                <a:lnTo>
                  <a:pt x="11833" y="18155"/>
                </a:lnTo>
                <a:cubicBezTo>
                  <a:pt x="9065" y="18155"/>
                  <a:pt x="6489" y="15596"/>
                  <a:pt x="6489" y="12828"/>
                </a:cubicBez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04920" y="5105520"/>
            <a:ext cx="883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: What is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ELECTIVELY PERMEABLE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OR Semi-permeable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4920" y="2590920"/>
            <a:ext cx="88390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Describes a membrane that allows certain molecules to pass through but keeps others ou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37880" y="646128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2C06 Jeopardy Revie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Vocabulary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4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>
            <a:hlinkClick r:id="" action="ppaction://hlinkshowjump?jump=previousslide"/>
          </p:cNvPr>
          <p:cNvSpPr/>
          <p:nvPr/>
        </p:nvSpPr>
        <p:spPr>
          <a:xfrm>
            <a:off x="8380440" y="6243480"/>
            <a:ext cx="762120" cy="60984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6990" h="21600">
                <a:moveTo>
                  <a:pt x="0" y="0"/>
                </a:moveTo>
                <a:lnTo>
                  <a:pt x="26990" y="0"/>
                </a:lnTo>
                <a:lnTo>
                  <a:pt x="26990" y="21600"/>
                </a:lnTo>
                <a:lnTo>
                  <a:pt x="0" y="21600"/>
                </a:lnTo>
                <a:close/>
              </a:path>
              <a:path fill="lightenLess" w="26990" h="21600">
                <a:moveTo>
                  <a:pt x="0" y="0"/>
                </a:moveTo>
                <a:lnTo>
                  <a:pt x="26990" y="0"/>
                </a:lnTo>
                <a:lnTo>
                  <a:pt x="25590" y="1400"/>
                </a:lnTo>
                <a:lnTo>
                  <a:pt x="1400" y="1400"/>
                </a:lnTo>
                <a:close/>
              </a:path>
              <a:path fill="darken" w="26990" h="21600">
                <a:moveTo>
                  <a:pt x="26990" y="0"/>
                </a:moveTo>
                <a:lnTo>
                  <a:pt x="26990" y="21600"/>
                </a:lnTo>
                <a:lnTo>
                  <a:pt x="25590" y="20200"/>
                </a:lnTo>
                <a:lnTo>
                  <a:pt x="25590" y="1400"/>
                </a:lnTo>
                <a:close/>
              </a:path>
              <a:path fill="darkenLess" w="26990" h="21600">
                <a:moveTo>
                  <a:pt x="269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0" y="20200"/>
                </a:lnTo>
                <a:close/>
              </a:path>
              <a:path fill="lighten" w="269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90" h="21600">
                <a:moveTo>
                  <a:pt x="6489" y="7493"/>
                </a:moveTo>
                <a:lnTo>
                  <a:pt x="9996" y="7493"/>
                </a:lnTo>
                <a:lnTo>
                  <a:pt x="9996" y="12828"/>
                </a:lnTo>
                <a:cubicBezTo>
                  <a:pt x="9996" y="13751"/>
                  <a:pt x="10797" y="14482"/>
                  <a:pt x="11833" y="14482"/>
                </a:cubicBezTo>
                <a:lnTo>
                  <a:pt x="13495" y="14482"/>
                </a:lnTo>
                <a:cubicBezTo>
                  <a:pt x="14531" y="14482"/>
                  <a:pt x="15332" y="13751"/>
                  <a:pt x="15332" y="12828"/>
                </a:cubicBezTo>
                <a:lnTo>
                  <a:pt x="15332" y="7493"/>
                </a:lnTo>
                <a:lnTo>
                  <a:pt x="13495" y="7493"/>
                </a:lnTo>
                <a:lnTo>
                  <a:pt x="17003" y="3985"/>
                </a:lnTo>
                <a:lnTo>
                  <a:pt x="20676" y="7493"/>
                </a:lnTo>
                <a:lnTo>
                  <a:pt x="18839" y="7493"/>
                </a:lnTo>
                <a:lnTo>
                  <a:pt x="18839" y="12828"/>
                </a:lnTo>
                <a:cubicBezTo>
                  <a:pt x="18839" y="15596"/>
                  <a:pt x="16263" y="18155"/>
                  <a:pt x="13495" y="18155"/>
                </a:cubicBezTo>
                <a:lnTo>
                  <a:pt x="11833" y="18155"/>
                </a:lnTo>
                <a:cubicBezTo>
                  <a:pt x="9065" y="18155"/>
                  <a:pt x="6489" y="15596"/>
                  <a:pt x="6489" y="12828"/>
                </a:cubicBez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62120" y="510552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: What is 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ristae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33520" y="2666880"/>
            <a:ext cx="8153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The folded inner membrane inside mitochondri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37880" y="646128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2C06 Jeopardy Revie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Vocabulary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5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>
            <a:hlinkClick r:id="" action="ppaction://hlinkshowjump?jump=previousslide"/>
          </p:cNvPr>
          <p:cNvSpPr/>
          <p:nvPr/>
        </p:nvSpPr>
        <p:spPr>
          <a:xfrm>
            <a:off x="8380440" y="6243480"/>
            <a:ext cx="762120" cy="60984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6990" h="21600">
                <a:moveTo>
                  <a:pt x="0" y="0"/>
                </a:moveTo>
                <a:lnTo>
                  <a:pt x="26990" y="0"/>
                </a:lnTo>
                <a:lnTo>
                  <a:pt x="26990" y="21600"/>
                </a:lnTo>
                <a:lnTo>
                  <a:pt x="0" y="21600"/>
                </a:lnTo>
                <a:close/>
              </a:path>
              <a:path fill="lightenLess" w="26990" h="21600">
                <a:moveTo>
                  <a:pt x="0" y="0"/>
                </a:moveTo>
                <a:lnTo>
                  <a:pt x="26990" y="0"/>
                </a:lnTo>
                <a:lnTo>
                  <a:pt x="25590" y="1400"/>
                </a:lnTo>
                <a:lnTo>
                  <a:pt x="1400" y="1400"/>
                </a:lnTo>
                <a:close/>
              </a:path>
              <a:path fill="darken" w="26990" h="21600">
                <a:moveTo>
                  <a:pt x="26990" y="0"/>
                </a:moveTo>
                <a:lnTo>
                  <a:pt x="26990" y="21600"/>
                </a:lnTo>
                <a:lnTo>
                  <a:pt x="25590" y="20200"/>
                </a:lnTo>
                <a:lnTo>
                  <a:pt x="25590" y="1400"/>
                </a:lnTo>
                <a:close/>
              </a:path>
              <a:path fill="darkenLess" w="26990" h="21600">
                <a:moveTo>
                  <a:pt x="269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0" y="20200"/>
                </a:lnTo>
                <a:close/>
              </a:path>
              <a:path fill="lighten" w="269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90" h="21600">
                <a:moveTo>
                  <a:pt x="6489" y="7493"/>
                </a:moveTo>
                <a:lnTo>
                  <a:pt x="9996" y="7493"/>
                </a:lnTo>
                <a:lnTo>
                  <a:pt x="9996" y="12828"/>
                </a:lnTo>
                <a:cubicBezTo>
                  <a:pt x="9996" y="13751"/>
                  <a:pt x="10797" y="14482"/>
                  <a:pt x="11833" y="14482"/>
                </a:cubicBezTo>
                <a:lnTo>
                  <a:pt x="13495" y="14482"/>
                </a:lnTo>
                <a:cubicBezTo>
                  <a:pt x="14531" y="14482"/>
                  <a:pt x="15332" y="13751"/>
                  <a:pt x="15332" y="12828"/>
                </a:cubicBezTo>
                <a:lnTo>
                  <a:pt x="15332" y="7493"/>
                </a:lnTo>
                <a:lnTo>
                  <a:pt x="13495" y="7493"/>
                </a:lnTo>
                <a:lnTo>
                  <a:pt x="17003" y="3985"/>
                </a:lnTo>
                <a:lnTo>
                  <a:pt x="20676" y="7493"/>
                </a:lnTo>
                <a:lnTo>
                  <a:pt x="18839" y="7493"/>
                </a:lnTo>
                <a:lnTo>
                  <a:pt x="18839" y="12828"/>
                </a:lnTo>
                <a:cubicBezTo>
                  <a:pt x="18839" y="15596"/>
                  <a:pt x="16263" y="18155"/>
                  <a:pt x="13495" y="18155"/>
                </a:cubicBezTo>
                <a:lnTo>
                  <a:pt x="11833" y="18155"/>
                </a:lnTo>
                <a:cubicBezTo>
                  <a:pt x="9065" y="18155"/>
                  <a:pt x="6489" y="15596"/>
                  <a:pt x="6489" y="12828"/>
                </a:cubicBez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5105520"/>
            <a:ext cx="9524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: What is 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ntegral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2590920"/>
            <a:ext cx="87631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Proteins that stick either part way or all the way into a cell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membrane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7880" y="646128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2C06 Jeopardy Revie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ell Difference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1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>
            <a:hlinkClick r:id="" action="ppaction://hlinkshowjump?jump=previousslide"/>
          </p:cNvPr>
          <p:cNvSpPr/>
          <p:nvPr/>
        </p:nvSpPr>
        <p:spPr>
          <a:xfrm>
            <a:off x="8381880" y="6248520"/>
            <a:ext cx="762120" cy="60948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6" h="21600">
                <a:moveTo>
                  <a:pt x="6497" y="7493"/>
                </a:moveTo>
                <a:lnTo>
                  <a:pt x="10004" y="7493"/>
                </a:lnTo>
                <a:lnTo>
                  <a:pt x="10004" y="12828"/>
                </a:lnTo>
                <a:cubicBezTo>
                  <a:pt x="10004" y="13751"/>
                  <a:pt x="10805" y="14482"/>
                  <a:pt x="11841" y="14482"/>
                </a:cubicBezTo>
                <a:lnTo>
                  <a:pt x="13503" y="14482"/>
                </a:lnTo>
                <a:cubicBezTo>
                  <a:pt x="14539" y="14482"/>
                  <a:pt x="15340" y="13751"/>
                  <a:pt x="15340" y="12828"/>
                </a:cubicBezTo>
                <a:lnTo>
                  <a:pt x="15340" y="7493"/>
                </a:lnTo>
                <a:lnTo>
                  <a:pt x="13503" y="7493"/>
                </a:lnTo>
                <a:lnTo>
                  <a:pt x="17011" y="3985"/>
                </a:lnTo>
                <a:lnTo>
                  <a:pt x="20684" y="7493"/>
                </a:lnTo>
                <a:lnTo>
                  <a:pt x="18847" y="7493"/>
                </a:lnTo>
                <a:lnTo>
                  <a:pt x="18847" y="12828"/>
                </a:lnTo>
                <a:cubicBezTo>
                  <a:pt x="18847" y="15596"/>
                  <a:pt x="16271" y="18155"/>
                  <a:pt x="13503" y="18155"/>
                </a:cubicBezTo>
                <a:lnTo>
                  <a:pt x="11841" y="18155"/>
                </a:lnTo>
                <a:cubicBezTo>
                  <a:pt x="9073" y="18155"/>
                  <a:pt x="6497" y="15596"/>
                  <a:pt x="6497" y="12828"/>
                </a:cubicBez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4800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: What are 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Bacteria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87280" y="2411280"/>
            <a:ext cx="813600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LANT    ANIMAL    BACTER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ich are prokaryote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37880" y="646128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2C06 Jeopardy Revie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ell Difference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2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>
            <a:hlinkClick r:id="" action="ppaction://hlinkshowjump?jump=previousslide"/>
          </p:cNvPr>
          <p:cNvSpPr/>
          <p:nvPr/>
        </p:nvSpPr>
        <p:spPr>
          <a:xfrm>
            <a:off x="8380440" y="6243480"/>
            <a:ext cx="762120" cy="60984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6990" h="21600">
                <a:moveTo>
                  <a:pt x="0" y="0"/>
                </a:moveTo>
                <a:lnTo>
                  <a:pt x="26990" y="0"/>
                </a:lnTo>
                <a:lnTo>
                  <a:pt x="26990" y="21600"/>
                </a:lnTo>
                <a:lnTo>
                  <a:pt x="0" y="21600"/>
                </a:lnTo>
                <a:close/>
              </a:path>
              <a:path fill="lightenLess" w="26990" h="21600">
                <a:moveTo>
                  <a:pt x="0" y="0"/>
                </a:moveTo>
                <a:lnTo>
                  <a:pt x="26990" y="0"/>
                </a:lnTo>
                <a:lnTo>
                  <a:pt x="25590" y="1400"/>
                </a:lnTo>
                <a:lnTo>
                  <a:pt x="1400" y="1400"/>
                </a:lnTo>
                <a:close/>
              </a:path>
              <a:path fill="darken" w="26990" h="21600">
                <a:moveTo>
                  <a:pt x="26990" y="0"/>
                </a:moveTo>
                <a:lnTo>
                  <a:pt x="26990" y="21600"/>
                </a:lnTo>
                <a:lnTo>
                  <a:pt x="25590" y="20200"/>
                </a:lnTo>
                <a:lnTo>
                  <a:pt x="25590" y="1400"/>
                </a:lnTo>
                <a:close/>
              </a:path>
              <a:path fill="darkenLess" w="26990" h="21600">
                <a:moveTo>
                  <a:pt x="269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0" y="20200"/>
                </a:lnTo>
                <a:close/>
              </a:path>
              <a:path fill="lighten" w="269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90" h="21600">
                <a:moveTo>
                  <a:pt x="6489" y="7493"/>
                </a:moveTo>
                <a:lnTo>
                  <a:pt x="9996" y="7493"/>
                </a:lnTo>
                <a:lnTo>
                  <a:pt x="9996" y="12828"/>
                </a:lnTo>
                <a:cubicBezTo>
                  <a:pt x="9996" y="13751"/>
                  <a:pt x="10797" y="14482"/>
                  <a:pt x="11833" y="14482"/>
                </a:cubicBezTo>
                <a:lnTo>
                  <a:pt x="13495" y="14482"/>
                </a:lnTo>
                <a:cubicBezTo>
                  <a:pt x="14531" y="14482"/>
                  <a:pt x="15332" y="13751"/>
                  <a:pt x="15332" y="12828"/>
                </a:cubicBezTo>
                <a:lnTo>
                  <a:pt x="15332" y="7493"/>
                </a:lnTo>
                <a:lnTo>
                  <a:pt x="13495" y="7493"/>
                </a:lnTo>
                <a:lnTo>
                  <a:pt x="17003" y="3985"/>
                </a:lnTo>
                <a:lnTo>
                  <a:pt x="20676" y="7493"/>
                </a:lnTo>
                <a:lnTo>
                  <a:pt x="18839" y="7493"/>
                </a:lnTo>
                <a:lnTo>
                  <a:pt x="18839" y="12828"/>
                </a:lnTo>
                <a:cubicBezTo>
                  <a:pt x="18839" y="15596"/>
                  <a:pt x="16263" y="18155"/>
                  <a:pt x="13495" y="18155"/>
                </a:cubicBezTo>
                <a:lnTo>
                  <a:pt x="11833" y="18155"/>
                </a:lnTo>
                <a:cubicBezTo>
                  <a:pt x="9065" y="18155"/>
                  <a:pt x="6489" y="15596"/>
                  <a:pt x="6489" y="12828"/>
                </a:cubicBez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510552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: What is 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ELL WALL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38080" y="2590920"/>
            <a:ext cx="76201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The layer found outside of the cell membrane in plants and bacteri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37880" y="646128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2C06 Jeopardy Revie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ell Difference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3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>
            <a:hlinkClick r:id="" action="ppaction://hlinkshowjump?jump=previousslide"/>
          </p:cNvPr>
          <p:cNvSpPr/>
          <p:nvPr/>
        </p:nvSpPr>
        <p:spPr>
          <a:xfrm>
            <a:off x="8380440" y="6243480"/>
            <a:ext cx="762120" cy="60984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6990" h="21600">
                <a:moveTo>
                  <a:pt x="0" y="0"/>
                </a:moveTo>
                <a:lnTo>
                  <a:pt x="26990" y="0"/>
                </a:lnTo>
                <a:lnTo>
                  <a:pt x="26990" y="21600"/>
                </a:lnTo>
                <a:lnTo>
                  <a:pt x="0" y="21600"/>
                </a:lnTo>
                <a:close/>
              </a:path>
              <a:path fill="lightenLess" w="26990" h="21600">
                <a:moveTo>
                  <a:pt x="0" y="0"/>
                </a:moveTo>
                <a:lnTo>
                  <a:pt x="26990" y="0"/>
                </a:lnTo>
                <a:lnTo>
                  <a:pt x="25590" y="1400"/>
                </a:lnTo>
                <a:lnTo>
                  <a:pt x="1400" y="1400"/>
                </a:lnTo>
                <a:close/>
              </a:path>
              <a:path fill="darken" w="26990" h="21600">
                <a:moveTo>
                  <a:pt x="26990" y="0"/>
                </a:moveTo>
                <a:lnTo>
                  <a:pt x="26990" y="21600"/>
                </a:lnTo>
                <a:lnTo>
                  <a:pt x="25590" y="20200"/>
                </a:lnTo>
                <a:lnTo>
                  <a:pt x="25590" y="1400"/>
                </a:lnTo>
                <a:close/>
              </a:path>
              <a:path fill="darkenLess" w="26990" h="21600">
                <a:moveTo>
                  <a:pt x="269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0" y="20200"/>
                </a:lnTo>
                <a:close/>
              </a:path>
              <a:path fill="lighten" w="269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90" h="21600">
                <a:moveTo>
                  <a:pt x="6489" y="7493"/>
                </a:moveTo>
                <a:lnTo>
                  <a:pt x="9996" y="7493"/>
                </a:lnTo>
                <a:lnTo>
                  <a:pt x="9996" y="12828"/>
                </a:lnTo>
                <a:cubicBezTo>
                  <a:pt x="9996" y="13751"/>
                  <a:pt x="10797" y="14482"/>
                  <a:pt x="11833" y="14482"/>
                </a:cubicBezTo>
                <a:lnTo>
                  <a:pt x="13495" y="14482"/>
                </a:lnTo>
                <a:cubicBezTo>
                  <a:pt x="14531" y="14482"/>
                  <a:pt x="15332" y="13751"/>
                  <a:pt x="15332" y="12828"/>
                </a:cubicBezTo>
                <a:lnTo>
                  <a:pt x="15332" y="7493"/>
                </a:lnTo>
                <a:lnTo>
                  <a:pt x="13495" y="7493"/>
                </a:lnTo>
                <a:lnTo>
                  <a:pt x="17003" y="3985"/>
                </a:lnTo>
                <a:lnTo>
                  <a:pt x="20676" y="7493"/>
                </a:lnTo>
                <a:lnTo>
                  <a:pt x="18839" y="7493"/>
                </a:lnTo>
                <a:lnTo>
                  <a:pt x="18839" y="12828"/>
                </a:lnTo>
                <a:cubicBezTo>
                  <a:pt x="18839" y="15596"/>
                  <a:pt x="16263" y="18155"/>
                  <a:pt x="13495" y="18155"/>
                </a:cubicBezTo>
                <a:lnTo>
                  <a:pt x="11833" y="18155"/>
                </a:lnTo>
                <a:cubicBezTo>
                  <a:pt x="9065" y="18155"/>
                  <a:pt x="6489" y="15596"/>
                  <a:pt x="6489" y="12828"/>
                </a:cubicBez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85800" y="556272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: What is a 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VACUOL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38080" y="1981080"/>
            <a:ext cx="76201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The organelle that acts as a storage space. It is larger in plant cells and smaller in animal cell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37880" y="646128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2C06 Jeopardy Revie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ell Difference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4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>
            <a:hlinkClick r:id="" action="ppaction://hlinkshowjump?jump=previousslide"/>
          </p:cNvPr>
          <p:cNvSpPr/>
          <p:nvPr/>
        </p:nvSpPr>
        <p:spPr>
          <a:xfrm>
            <a:off x="8380440" y="6243480"/>
            <a:ext cx="762120" cy="60984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6990" h="21600">
                <a:moveTo>
                  <a:pt x="0" y="0"/>
                </a:moveTo>
                <a:lnTo>
                  <a:pt x="26990" y="0"/>
                </a:lnTo>
                <a:lnTo>
                  <a:pt x="26990" y="21600"/>
                </a:lnTo>
                <a:lnTo>
                  <a:pt x="0" y="21600"/>
                </a:lnTo>
                <a:close/>
              </a:path>
              <a:path fill="lightenLess" w="26990" h="21600">
                <a:moveTo>
                  <a:pt x="0" y="0"/>
                </a:moveTo>
                <a:lnTo>
                  <a:pt x="26990" y="0"/>
                </a:lnTo>
                <a:lnTo>
                  <a:pt x="25590" y="1400"/>
                </a:lnTo>
                <a:lnTo>
                  <a:pt x="1400" y="1400"/>
                </a:lnTo>
                <a:close/>
              </a:path>
              <a:path fill="darken" w="26990" h="21600">
                <a:moveTo>
                  <a:pt x="26990" y="0"/>
                </a:moveTo>
                <a:lnTo>
                  <a:pt x="26990" y="21600"/>
                </a:lnTo>
                <a:lnTo>
                  <a:pt x="25590" y="20200"/>
                </a:lnTo>
                <a:lnTo>
                  <a:pt x="25590" y="1400"/>
                </a:lnTo>
                <a:close/>
              </a:path>
              <a:path fill="darkenLess" w="26990" h="21600">
                <a:moveTo>
                  <a:pt x="269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0" y="20200"/>
                </a:lnTo>
                <a:close/>
              </a:path>
              <a:path fill="lighten" w="269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90" h="21600">
                <a:moveTo>
                  <a:pt x="6489" y="7493"/>
                </a:moveTo>
                <a:lnTo>
                  <a:pt x="9996" y="7493"/>
                </a:lnTo>
                <a:lnTo>
                  <a:pt x="9996" y="12828"/>
                </a:lnTo>
                <a:cubicBezTo>
                  <a:pt x="9996" y="13751"/>
                  <a:pt x="10797" y="14482"/>
                  <a:pt x="11833" y="14482"/>
                </a:cubicBezTo>
                <a:lnTo>
                  <a:pt x="13495" y="14482"/>
                </a:lnTo>
                <a:cubicBezTo>
                  <a:pt x="14531" y="14482"/>
                  <a:pt x="15332" y="13751"/>
                  <a:pt x="15332" y="12828"/>
                </a:cubicBezTo>
                <a:lnTo>
                  <a:pt x="15332" y="7493"/>
                </a:lnTo>
                <a:lnTo>
                  <a:pt x="13495" y="7493"/>
                </a:lnTo>
                <a:lnTo>
                  <a:pt x="17003" y="3985"/>
                </a:lnTo>
                <a:lnTo>
                  <a:pt x="20676" y="7493"/>
                </a:lnTo>
                <a:lnTo>
                  <a:pt x="18839" y="7493"/>
                </a:lnTo>
                <a:lnTo>
                  <a:pt x="18839" y="12828"/>
                </a:lnTo>
                <a:cubicBezTo>
                  <a:pt x="18839" y="15596"/>
                  <a:pt x="16263" y="18155"/>
                  <a:pt x="13495" y="18155"/>
                </a:cubicBezTo>
                <a:lnTo>
                  <a:pt x="11833" y="18155"/>
                </a:lnTo>
                <a:cubicBezTo>
                  <a:pt x="9065" y="18155"/>
                  <a:pt x="6489" y="15596"/>
                  <a:pt x="6489" y="12828"/>
                </a:cubicBez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62120" y="510552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: What is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ALL DO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?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All cells have a cell membran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62120" y="2362320"/>
            <a:ext cx="7924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LANT    ANIMAL    BACTERI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ich have a cell membran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37880" y="646128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2C06 Jeopardy Revie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ell Difference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5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>
            <a:hlinkClick r:id="" action="ppaction://hlinkshowjump?jump=previousslide"/>
          </p:cNvPr>
          <p:cNvSpPr/>
          <p:nvPr/>
        </p:nvSpPr>
        <p:spPr>
          <a:xfrm>
            <a:off x="8380440" y="6243480"/>
            <a:ext cx="762120" cy="60984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6990" h="21600">
                <a:moveTo>
                  <a:pt x="0" y="0"/>
                </a:moveTo>
                <a:lnTo>
                  <a:pt x="26990" y="0"/>
                </a:lnTo>
                <a:lnTo>
                  <a:pt x="26990" y="21600"/>
                </a:lnTo>
                <a:lnTo>
                  <a:pt x="0" y="21600"/>
                </a:lnTo>
                <a:close/>
              </a:path>
              <a:path fill="lightenLess" w="26990" h="21600">
                <a:moveTo>
                  <a:pt x="0" y="0"/>
                </a:moveTo>
                <a:lnTo>
                  <a:pt x="26990" y="0"/>
                </a:lnTo>
                <a:lnTo>
                  <a:pt x="25590" y="1400"/>
                </a:lnTo>
                <a:lnTo>
                  <a:pt x="1400" y="1400"/>
                </a:lnTo>
                <a:close/>
              </a:path>
              <a:path fill="darken" w="26990" h="21600">
                <a:moveTo>
                  <a:pt x="26990" y="0"/>
                </a:moveTo>
                <a:lnTo>
                  <a:pt x="26990" y="21600"/>
                </a:lnTo>
                <a:lnTo>
                  <a:pt x="25590" y="20200"/>
                </a:lnTo>
                <a:lnTo>
                  <a:pt x="25590" y="1400"/>
                </a:lnTo>
                <a:close/>
              </a:path>
              <a:path fill="darkenLess" w="26990" h="21600">
                <a:moveTo>
                  <a:pt x="269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0" y="20200"/>
                </a:lnTo>
                <a:close/>
              </a:path>
              <a:path fill="lighten" w="269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90" h="21600">
                <a:moveTo>
                  <a:pt x="6489" y="7493"/>
                </a:moveTo>
                <a:lnTo>
                  <a:pt x="9996" y="7493"/>
                </a:lnTo>
                <a:lnTo>
                  <a:pt x="9996" y="12828"/>
                </a:lnTo>
                <a:cubicBezTo>
                  <a:pt x="9996" y="13751"/>
                  <a:pt x="10797" y="14482"/>
                  <a:pt x="11833" y="14482"/>
                </a:cubicBezTo>
                <a:lnTo>
                  <a:pt x="13495" y="14482"/>
                </a:lnTo>
                <a:cubicBezTo>
                  <a:pt x="14531" y="14482"/>
                  <a:pt x="15332" y="13751"/>
                  <a:pt x="15332" y="12828"/>
                </a:cubicBezTo>
                <a:lnTo>
                  <a:pt x="15332" y="7493"/>
                </a:lnTo>
                <a:lnTo>
                  <a:pt x="13495" y="7493"/>
                </a:lnTo>
                <a:lnTo>
                  <a:pt x="17003" y="3985"/>
                </a:lnTo>
                <a:lnTo>
                  <a:pt x="20676" y="7493"/>
                </a:lnTo>
                <a:lnTo>
                  <a:pt x="18839" y="7493"/>
                </a:lnTo>
                <a:lnTo>
                  <a:pt x="18839" y="12828"/>
                </a:lnTo>
                <a:cubicBezTo>
                  <a:pt x="18839" y="15596"/>
                  <a:pt x="16263" y="18155"/>
                  <a:pt x="13495" y="18155"/>
                </a:cubicBezTo>
                <a:lnTo>
                  <a:pt x="11833" y="18155"/>
                </a:lnTo>
                <a:cubicBezTo>
                  <a:pt x="9065" y="18155"/>
                  <a:pt x="6489" y="15596"/>
                  <a:pt x="6489" y="12828"/>
                </a:cubicBez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09480" y="4952880"/>
            <a:ext cx="8534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: What are 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lants and Bacteria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04920" y="2286000"/>
            <a:ext cx="8839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LANT    ANIMAL    BACTER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ich have a cell wal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37880" y="646128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2C06 Jeopardy Revie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Picture ID</a:t>
            </a:r>
            <a:br>
              <a:rPr sz="60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1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>
            <a:hlinkClick r:id="" action="ppaction://hlinkshowjump?jump=previousslide"/>
          </p:cNvPr>
          <p:cNvSpPr/>
          <p:nvPr/>
        </p:nvSpPr>
        <p:spPr>
          <a:xfrm>
            <a:off x="8381880" y="6248520"/>
            <a:ext cx="762120" cy="60948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6" h="21600">
                <a:moveTo>
                  <a:pt x="6497" y="7493"/>
                </a:moveTo>
                <a:lnTo>
                  <a:pt x="10004" y="7493"/>
                </a:lnTo>
                <a:lnTo>
                  <a:pt x="10004" y="12828"/>
                </a:lnTo>
                <a:cubicBezTo>
                  <a:pt x="10004" y="13751"/>
                  <a:pt x="10805" y="14482"/>
                  <a:pt x="11841" y="14482"/>
                </a:cubicBezTo>
                <a:lnTo>
                  <a:pt x="13503" y="14482"/>
                </a:lnTo>
                <a:cubicBezTo>
                  <a:pt x="14539" y="14482"/>
                  <a:pt x="15340" y="13751"/>
                  <a:pt x="15340" y="12828"/>
                </a:cubicBezTo>
                <a:lnTo>
                  <a:pt x="15340" y="7493"/>
                </a:lnTo>
                <a:lnTo>
                  <a:pt x="13503" y="7493"/>
                </a:lnTo>
                <a:lnTo>
                  <a:pt x="17011" y="3985"/>
                </a:lnTo>
                <a:lnTo>
                  <a:pt x="20684" y="7493"/>
                </a:lnTo>
                <a:lnTo>
                  <a:pt x="18847" y="7493"/>
                </a:lnTo>
                <a:lnTo>
                  <a:pt x="18847" y="12828"/>
                </a:lnTo>
                <a:cubicBezTo>
                  <a:pt x="18847" y="15596"/>
                  <a:pt x="16271" y="18155"/>
                  <a:pt x="13503" y="18155"/>
                </a:cubicBezTo>
                <a:lnTo>
                  <a:pt x="11841" y="18155"/>
                </a:lnTo>
                <a:cubicBezTo>
                  <a:pt x="9073" y="18155"/>
                  <a:pt x="6497" y="15596"/>
                  <a:pt x="6497" y="12828"/>
                </a:cubicBez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62120" y="510552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: What is a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mitochondria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28600" y="2057400"/>
            <a:ext cx="8915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880" y="646128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2C06 Jeopardy Revie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272120" y="2057400"/>
            <a:ext cx="4606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is organel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as a folded inner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embrane and provid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nergy for cell activi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228600" y="2362320"/>
            <a:ext cx="3505320" cy="173664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232920" y="6400080"/>
            <a:ext cx="4315320" cy="2462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ccff"/>
                </a:solidFill>
                <a:latin typeface="Times New Roman"/>
              </a:rPr>
              <a:t>http://www.emc.maricopa.edu/faculty/farabee/BIOBK/BioBookCELL2.htm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Picture ID</a:t>
            </a:r>
            <a:br>
              <a:rPr sz="60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2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>
            <a:hlinkClick r:id="" action="ppaction://hlinkshowjump?jump=previousslide"/>
          </p:cNvPr>
          <p:cNvSpPr/>
          <p:nvPr/>
        </p:nvSpPr>
        <p:spPr>
          <a:xfrm>
            <a:off x="8380440" y="6243480"/>
            <a:ext cx="762120" cy="60984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6990" h="21600">
                <a:moveTo>
                  <a:pt x="0" y="0"/>
                </a:moveTo>
                <a:lnTo>
                  <a:pt x="26990" y="0"/>
                </a:lnTo>
                <a:lnTo>
                  <a:pt x="26990" y="21600"/>
                </a:lnTo>
                <a:lnTo>
                  <a:pt x="0" y="21600"/>
                </a:lnTo>
                <a:close/>
              </a:path>
              <a:path fill="lightenLess" w="26990" h="21600">
                <a:moveTo>
                  <a:pt x="0" y="0"/>
                </a:moveTo>
                <a:lnTo>
                  <a:pt x="26990" y="0"/>
                </a:lnTo>
                <a:lnTo>
                  <a:pt x="25590" y="1400"/>
                </a:lnTo>
                <a:lnTo>
                  <a:pt x="1400" y="1400"/>
                </a:lnTo>
                <a:close/>
              </a:path>
              <a:path fill="darken" w="26990" h="21600">
                <a:moveTo>
                  <a:pt x="26990" y="0"/>
                </a:moveTo>
                <a:lnTo>
                  <a:pt x="26990" y="21600"/>
                </a:lnTo>
                <a:lnTo>
                  <a:pt x="25590" y="20200"/>
                </a:lnTo>
                <a:lnTo>
                  <a:pt x="25590" y="1400"/>
                </a:lnTo>
                <a:close/>
              </a:path>
              <a:path fill="darkenLess" w="26990" h="21600">
                <a:moveTo>
                  <a:pt x="269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0" y="20200"/>
                </a:lnTo>
                <a:close/>
              </a:path>
              <a:path fill="lighten" w="269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90" h="21600">
                <a:moveTo>
                  <a:pt x="6489" y="7493"/>
                </a:moveTo>
                <a:lnTo>
                  <a:pt x="9996" y="7493"/>
                </a:lnTo>
                <a:lnTo>
                  <a:pt x="9996" y="12828"/>
                </a:lnTo>
                <a:cubicBezTo>
                  <a:pt x="9996" y="13751"/>
                  <a:pt x="10797" y="14482"/>
                  <a:pt x="11833" y="14482"/>
                </a:cubicBezTo>
                <a:lnTo>
                  <a:pt x="13495" y="14482"/>
                </a:lnTo>
                <a:cubicBezTo>
                  <a:pt x="14531" y="14482"/>
                  <a:pt x="15332" y="13751"/>
                  <a:pt x="15332" y="12828"/>
                </a:cubicBezTo>
                <a:lnTo>
                  <a:pt x="15332" y="7493"/>
                </a:lnTo>
                <a:lnTo>
                  <a:pt x="13495" y="7493"/>
                </a:lnTo>
                <a:lnTo>
                  <a:pt x="17003" y="3985"/>
                </a:lnTo>
                <a:lnTo>
                  <a:pt x="20676" y="7493"/>
                </a:lnTo>
                <a:lnTo>
                  <a:pt x="18839" y="7493"/>
                </a:lnTo>
                <a:lnTo>
                  <a:pt x="18839" y="12828"/>
                </a:lnTo>
                <a:cubicBezTo>
                  <a:pt x="18839" y="15596"/>
                  <a:pt x="16263" y="18155"/>
                  <a:pt x="13495" y="18155"/>
                </a:cubicBezTo>
                <a:lnTo>
                  <a:pt x="11833" y="18155"/>
                </a:lnTo>
                <a:cubicBezTo>
                  <a:pt x="9065" y="18155"/>
                  <a:pt x="6489" y="15596"/>
                  <a:pt x="6489" y="12828"/>
                </a:cubicBez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57200" y="541008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: What is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rough ER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37880" y="646128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2C06 Jeopardy Revie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733920" y="2133720"/>
            <a:ext cx="48006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is organelle has ribosomes attached and transports the proteins it makes to the Golg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" descr="Smooth Endoplasmic Reticulum"/>
          <p:cNvPicPr/>
          <p:nvPr/>
        </p:nvPicPr>
        <p:blipFill>
          <a:blip r:embed="rId1"/>
          <a:srcRect l="0" t="0" r="0" b="12497"/>
          <a:stretch/>
        </p:blipFill>
        <p:spPr>
          <a:xfrm>
            <a:off x="762120" y="2057400"/>
            <a:ext cx="2309760" cy="266688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227880" y="6400080"/>
            <a:ext cx="2962080" cy="2462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ccff"/>
                </a:solidFill>
                <a:latin typeface="Arial"/>
              </a:rPr>
              <a:t>http://www.biology4kids.com/files/cell_er.htm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1828800" cy="1295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rganelle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828800" y="0"/>
            <a:ext cx="1828800" cy="1295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657600" y="0"/>
            <a:ext cx="1828800" cy="1295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486400" y="0"/>
            <a:ext cx="1828800" cy="1295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0"/>
            <a:ext cx="1828800" cy="1295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828800" y="1523880"/>
            <a:ext cx="1828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657600" y="1523880"/>
            <a:ext cx="1828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486400" y="1523880"/>
            <a:ext cx="1828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315200" y="1523880"/>
            <a:ext cx="1828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2590920"/>
            <a:ext cx="1828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828800" y="2590920"/>
            <a:ext cx="1828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657600" y="2590920"/>
            <a:ext cx="1828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486400" y="2590920"/>
            <a:ext cx="1828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15200" y="2590920"/>
            <a:ext cx="1828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0" y="3657600"/>
            <a:ext cx="1828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828800" y="3657600"/>
            <a:ext cx="1828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657600" y="3657600"/>
            <a:ext cx="1828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486400" y="3657600"/>
            <a:ext cx="1828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315200" y="3657600"/>
            <a:ext cx="1828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4724280"/>
            <a:ext cx="1828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828800" y="4724280"/>
            <a:ext cx="1828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657600" y="4724280"/>
            <a:ext cx="1828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486400" y="4724280"/>
            <a:ext cx="1828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315200" y="4724280"/>
            <a:ext cx="1828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5791320"/>
            <a:ext cx="1828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828800" y="5791320"/>
            <a:ext cx="1828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657600" y="5791320"/>
            <a:ext cx="1828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486400" y="5791320"/>
            <a:ext cx="1828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315200" y="5791320"/>
            <a:ext cx="1828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828800" y="0"/>
            <a:ext cx="1828800" cy="1295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ocabul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657600" y="0"/>
            <a:ext cx="1828800" cy="1295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ell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486400" y="0"/>
            <a:ext cx="1828800" cy="1295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ictur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ID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315200" y="0"/>
            <a:ext cx="1828800" cy="1295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isc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0" y="1295280"/>
            <a:ext cx="91440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1519200"/>
            <a:ext cx="1828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ccff"/>
                </a:solidFill>
                <a:uFillTx/>
                <a:latin typeface="Arial"/>
                <a:hlinkClick r:id="rId1" action="ppaction://hlinksldjump"/>
              </a:rPr>
              <a:t>1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828800" y="1519200"/>
            <a:ext cx="1828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ccff"/>
                </a:solidFill>
                <a:uFillTx/>
                <a:latin typeface="Arial"/>
                <a:hlinkClick r:id="rId2" action="ppaction://hlinksldjump"/>
              </a:rPr>
              <a:t>1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657600" y="1519200"/>
            <a:ext cx="1828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ccff"/>
                </a:solidFill>
                <a:uFillTx/>
                <a:latin typeface="Arial"/>
                <a:hlinkClick r:id="rId3" action="ppaction://hlinksldjump"/>
              </a:rPr>
              <a:t>1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486400" y="1519200"/>
            <a:ext cx="1828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ccff"/>
                </a:solidFill>
                <a:uFillTx/>
                <a:latin typeface="Arial"/>
                <a:hlinkClick r:id="rId4" action="ppaction://hlinksldjump"/>
              </a:rPr>
              <a:t>1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315200" y="1519200"/>
            <a:ext cx="1828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ccff"/>
                </a:solidFill>
                <a:uFillTx/>
                <a:latin typeface="Arial"/>
                <a:hlinkClick r:id="rId5" action="ppaction://hlinksldjump"/>
              </a:rPr>
              <a:t>1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2585880"/>
            <a:ext cx="1828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ccff"/>
                </a:solidFill>
                <a:uFillTx/>
                <a:latin typeface="Arial"/>
                <a:hlinkClick r:id="rId6" action="ppaction://hlinksldjump"/>
              </a:rPr>
              <a:t>2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828800" y="2585880"/>
            <a:ext cx="1828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ccff"/>
                </a:solidFill>
                <a:uFillTx/>
                <a:latin typeface="Arial"/>
                <a:hlinkClick r:id="rId7" action="ppaction://hlinksldjump"/>
              </a:rPr>
              <a:t>2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657600" y="2585880"/>
            <a:ext cx="1828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ccff"/>
                </a:solidFill>
                <a:uFillTx/>
                <a:latin typeface="Arial"/>
                <a:hlinkClick r:id="rId8" action="ppaction://hlinksldjump"/>
              </a:rPr>
              <a:t>2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486400" y="2585880"/>
            <a:ext cx="1828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ccff"/>
                </a:solidFill>
                <a:uFillTx/>
                <a:latin typeface="Arial"/>
                <a:hlinkClick r:id="rId9" action="ppaction://hlinksldjump"/>
              </a:rPr>
              <a:t>2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315200" y="2585880"/>
            <a:ext cx="1828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ccff"/>
                </a:solidFill>
                <a:uFillTx/>
                <a:latin typeface="Arial"/>
                <a:hlinkClick r:id="rId10" action="ppaction://hlinksldjump"/>
              </a:rPr>
              <a:t>2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3652920"/>
            <a:ext cx="1828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ccff"/>
                </a:solidFill>
                <a:uFillTx/>
                <a:latin typeface="Arial"/>
                <a:hlinkClick r:id="rId11" action="ppaction://hlinksldjump"/>
              </a:rPr>
              <a:t>3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828800" y="3652920"/>
            <a:ext cx="1828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ccff"/>
                </a:solidFill>
                <a:uFillTx/>
                <a:latin typeface="Arial"/>
                <a:hlinkClick r:id="rId12" action="ppaction://hlinksldjump"/>
              </a:rPr>
              <a:t>3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657600" y="3652920"/>
            <a:ext cx="1828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ccff"/>
                </a:solidFill>
                <a:uFillTx/>
                <a:latin typeface="Arial"/>
                <a:hlinkClick r:id="rId13" action="ppaction://hlinksldjump"/>
              </a:rPr>
              <a:t>3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6400" y="3652920"/>
            <a:ext cx="1828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3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315200" y="3652920"/>
            <a:ext cx="1828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3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4719600"/>
            <a:ext cx="1828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4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4719600"/>
            <a:ext cx="1828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4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657600" y="4719600"/>
            <a:ext cx="1828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4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486400" y="4719600"/>
            <a:ext cx="1828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4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315200" y="4719600"/>
            <a:ext cx="1828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4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5786280"/>
            <a:ext cx="1828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5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828800" y="5786280"/>
            <a:ext cx="1828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5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57600" y="5786280"/>
            <a:ext cx="1828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5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486400" y="5786280"/>
            <a:ext cx="1828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5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>
            <a:hlinkClick r:id="rId14" action="ppaction://hlinksldjump"/>
          </p:cNvPr>
          <p:cNvSpPr/>
          <p:nvPr/>
        </p:nvSpPr>
        <p:spPr>
          <a:xfrm>
            <a:off x="7315200" y="5786280"/>
            <a:ext cx="1828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5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Picture ID</a:t>
            </a:r>
            <a:br>
              <a:rPr sz="60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3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>
            <a:hlinkClick r:id="" action="ppaction://hlinkshowjump?jump=previousslide"/>
          </p:cNvPr>
          <p:cNvSpPr/>
          <p:nvPr/>
        </p:nvSpPr>
        <p:spPr>
          <a:xfrm>
            <a:off x="8380440" y="6243480"/>
            <a:ext cx="762120" cy="60984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6990" h="21600">
                <a:moveTo>
                  <a:pt x="0" y="0"/>
                </a:moveTo>
                <a:lnTo>
                  <a:pt x="26990" y="0"/>
                </a:lnTo>
                <a:lnTo>
                  <a:pt x="26990" y="21600"/>
                </a:lnTo>
                <a:lnTo>
                  <a:pt x="0" y="21600"/>
                </a:lnTo>
                <a:close/>
              </a:path>
              <a:path fill="lightenLess" w="26990" h="21600">
                <a:moveTo>
                  <a:pt x="0" y="0"/>
                </a:moveTo>
                <a:lnTo>
                  <a:pt x="26990" y="0"/>
                </a:lnTo>
                <a:lnTo>
                  <a:pt x="25590" y="1400"/>
                </a:lnTo>
                <a:lnTo>
                  <a:pt x="1400" y="1400"/>
                </a:lnTo>
                <a:close/>
              </a:path>
              <a:path fill="darken" w="26990" h="21600">
                <a:moveTo>
                  <a:pt x="26990" y="0"/>
                </a:moveTo>
                <a:lnTo>
                  <a:pt x="26990" y="21600"/>
                </a:lnTo>
                <a:lnTo>
                  <a:pt x="25590" y="20200"/>
                </a:lnTo>
                <a:lnTo>
                  <a:pt x="25590" y="1400"/>
                </a:lnTo>
                <a:close/>
              </a:path>
              <a:path fill="darkenLess" w="26990" h="21600">
                <a:moveTo>
                  <a:pt x="269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0" y="20200"/>
                </a:lnTo>
                <a:close/>
              </a:path>
              <a:path fill="lighten" w="269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90" h="21600">
                <a:moveTo>
                  <a:pt x="6489" y="7493"/>
                </a:moveTo>
                <a:lnTo>
                  <a:pt x="9996" y="7493"/>
                </a:lnTo>
                <a:lnTo>
                  <a:pt x="9996" y="12828"/>
                </a:lnTo>
                <a:cubicBezTo>
                  <a:pt x="9996" y="13751"/>
                  <a:pt x="10797" y="14482"/>
                  <a:pt x="11833" y="14482"/>
                </a:cubicBezTo>
                <a:lnTo>
                  <a:pt x="13495" y="14482"/>
                </a:lnTo>
                <a:cubicBezTo>
                  <a:pt x="14531" y="14482"/>
                  <a:pt x="15332" y="13751"/>
                  <a:pt x="15332" y="12828"/>
                </a:cubicBezTo>
                <a:lnTo>
                  <a:pt x="15332" y="7493"/>
                </a:lnTo>
                <a:lnTo>
                  <a:pt x="13495" y="7493"/>
                </a:lnTo>
                <a:lnTo>
                  <a:pt x="17003" y="3985"/>
                </a:lnTo>
                <a:lnTo>
                  <a:pt x="20676" y="7493"/>
                </a:lnTo>
                <a:lnTo>
                  <a:pt x="18839" y="7493"/>
                </a:lnTo>
                <a:lnTo>
                  <a:pt x="18839" y="12828"/>
                </a:lnTo>
                <a:cubicBezTo>
                  <a:pt x="18839" y="15596"/>
                  <a:pt x="16263" y="18155"/>
                  <a:pt x="13495" y="18155"/>
                </a:cubicBezTo>
                <a:lnTo>
                  <a:pt x="11833" y="18155"/>
                </a:lnTo>
                <a:cubicBezTo>
                  <a:pt x="9065" y="18155"/>
                  <a:pt x="6489" y="15596"/>
                  <a:pt x="6489" y="12828"/>
                </a:cubicBez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838080" y="5638680"/>
            <a:ext cx="59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: What is a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flagellum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029200" y="2057400"/>
            <a:ext cx="3429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is organelle is made of microtubules and helps the cell mov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880" y="646128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2C06 Jeopardy Revie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0" name="flagella1" descr=""/>
          <p:cNvPicPr/>
          <p:nvPr/>
        </p:nvPicPr>
        <p:blipFill>
          <a:blip r:embed="rId1"/>
          <a:stretch/>
        </p:blipFill>
        <p:spPr>
          <a:xfrm>
            <a:off x="609480" y="2286000"/>
            <a:ext cx="358164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Picture ID</a:t>
            </a:r>
            <a:br>
              <a:rPr sz="60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4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>
            <a:hlinkClick r:id="" action="ppaction://hlinkshowjump?jump=previousslide"/>
          </p:cNvPr>
          <p:cNvSpPr/>
          <p:nvPr/>
        </p:nvSpPr>
        <p:spPr>
          <a:xfrm>
            <a:off x="8380440" y="6243480"/>
            <a:ext cx="762120" cy="60984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6990" h="21600">
                <a:moveTo>
                  <a:pt x="0" y="0"/>
                </a:moveTo>
                <a:lnTo>
                  <a:pt x="26990" y="0"/>
                </a:lnTo>
                <a:lnTo>
                  <a:pt x="26990" y="21600"/>
                </a:lnTo>
                <a:lnTo>
                  <a:pt x="0" y="21600"/>
                </a:lnTo>
                <a:close/>
              </a:path>
              <a:path fill="lightenLess" w="26990" h="21600">
                <a:moveTo>
                  <a:pt x="0" y="0"/>
                </a:moveTo>
                <a:lnTo>
                  <a:pt x="26990" y="0"/>
                </a:lnTo>
                <a:lnTo>
                  <a:pt x="25590" y="1400"/>
                </a:lnTo>
                <a:lnTo>
                  <a:pt x="1400" y="1400"/>
                </a:lnTo>
                <a:close/>
              </a:path>
              <a:path fill="darken" w="26990" h="21600">
                <a:moveTo>
                  <a:pt x="26990" y="0"/>
                </a:moveTo>
                <a:lnTo>
                  <a:pt x="26990" y="21600"/>
                </a:lnTo>
                <a:lnTo>
                  <a:pt x="25590" y="20200"/>
                </a:lnTo>
                <a:lnTo>
                  <a:pt x="25590" y="1400"/>
                </a:lnTo>
                <a:close/>
              </a:path>
              <a:path fill="darkenLess" w="26990" h="21600">
                <a:moveTo>
                  <a:pt x="269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0" y="20200"/>
                </a:lnTo>
                <a:close/>
              </a:path>
              <a:path fill="lighten" w="269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90" h="21600">
                <a:moveTo>
                  <a:pt x="6489" y="7493"/>
                </a:moveTo>
                <a:lnTo>
                  <a:pt x="9996" y="7493"/>
                </a:lnTo>
                <a:lnTo>
                  <a:pt x="9996" y="12828"/>
                </a:lnTo>
                <a:cubicBezTo>
                  <a:pt x="9996" y="13751"/>
                  <a:pt x="10797" y="14482"/>
                  <a:pt x="11833" y="14482"/>
                </a:cubicBezTo>
                <a:lnTo>
                  <a:pt x="13495" y="14482"/>
                </a:lnTo>
                <a:cubicBezTo>
                  <a:pt x="14531" y="14482"/>
                  <a:pt x="15332" y="13751"/>
                  <a:pt x="15332" y="12828"/>
                </a:cubicBezTo>
                <a:lnTo>
                  <a:pt x="15332" y="7493"/>
                </a:lnTo>
                <a:lnTo>
                  <a:pt x="13495" y="7493"/>
                </a:lnTo>
                <a:lnTo>
                  <a:pt x="17003" y="3985"/>
                </a:lnTo>
                <a:lnTo>
                  <a:pt x="20676" y="7493"/>
                </a:lnTo>
                <a:lnTo>
                  <a:pt x="18839" y="7493"/>
                </a:lnTo>
                <a:lnTo>
                  <a:pt x="18839" y="12828"/>
                </a:lnTo>
                <a:cubicBezTo>
                  <a:pt x="18839" y="15596"/>
                  <a:pt x="16263" y="18155"/>
                  <a:pt x="13495" y="18155"/>
                </a:cubicBezTo>
                <a:lnTo>
                  <a:pt x="11833" y="18155"/>
                </a:lnTo>
                <a:cubicBezTo>
                  <a:pt x="9065" y="18155"/>
                  <a:pt x="6489" y="15596"/>
                  <a:pt x="6489" y="12828"/>
                </a:cubicBez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7200" y="579132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: What is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the Golgi apparatus (body)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67080" y="1981080"/>
            <a:ext cx="44960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is organelle looks like a stack of pancakes and modifies, sorts, and packages molecules for storage or expor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37880" y="646128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2C06 Jeopardy Revie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rcRect l="0" t="27503" r="0" b="0"/>
          <a:stretch/>
        </p:blipFill>
        <p:spPr>
          <a:xfrm>
            <a:off x="228600" y="2362320"/>
            <a:ext cx="3911760" cy="212724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1200" y="6400080"/>
            <a:ext cx="4620240" cy="2462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ccff"/>
                </a:solidFill>
                <a:latin typeface="Arial"/>
              </a:rPr>
              <a:t>http://www.science.siu.edu/plant-biology/PLB117/JPEGs%20CD/0074.JP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Picture ID</a:t>
            </a:r>
            <a:br>
              <a:rPr sz="60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5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>
            <a:hlinkClick r:id="" action="ppaction://hlinkshowjump?jump=previousslide"/>
          </p:cNvPr>
          <p:cNvSpPr/>
          <p:nvPr/>
        </p:nvSpPr>
        <p:spPr>
          <a:xfrm>
            <a:off x="8380440" y="6243480"/>
            <a:ext cx="762120" cy="60984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6990" h="21600">
                <a:moveTo>
                  <a:pt x="0" y="0"/>
                </a:moveTo>
                <a:lnTo>
                  <a:pt x="26990" y="0"/>
                </a:lnTo>
                <a:lnTo>
                  <a:pt x="26990" y="21600"/>
                </a:lnTo>
                <a:lnTo>
                  <a:pt x="0" y="21600"/>
                </a:lnTo>
                <a:close/>
              </a:path>
              <a:path fill="lightenLess" w="26990" h="21600">
                <a:moveTo>
                  <a:pt x="0" y="0"/>
                </a:moveTo>
                <a:lnTo>
                  <a:pt x="26990" y="0"/>
                </a:lnTo>
                <a:lnTo>
                  <a:pt x="25590" y="1400"/>
                </a:lnTo>
                <a:lnTo>
                  <a:pt x="1400" y="1400"/>
                </a:lnTo>
                <a:close/>
              </a:path>
              <a:path fill="darken" w="26990" h="21600">
                <a:moveTo>
                  <a:pt x="26990" y="0"/>
                </a:moveTo>
                <a:lnTo>
                  <a:pt x="26990" y="21600"/>
                </a:lnTo>
                <a:lnTo>
                  <a:pt x="25590" y="20200"/>
                </a:lnTo>
                <a:lnTo>
                  <a:pt x="25590" y="1400"/>
                </a:lnTo>
                <a:close/>
              </a:path>
              <a:path fill="darkenLess" w="26990" h="21600">
                <a:moveTo>
                  <a:pt x="269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0" y="20200"/>
                </a:lnTo>
                <a:close/>
              </a:path>
              <a:path fill="lighten" w="269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90" h="21600">
                <a:moveTo>
                  <a:pt x="6489" y="7493"/>
                </a:moveTo>
                <a:lnTo>
                  <a:pt x="9996" y="7493"/>
                </a:lnTo>
                <a:lnTo>
                  <a:pt x="9996" y="12828"/>
                </a:lnTo>
                <a:cubicBezTo>
                  <a:pt x="9996" y="13751"/>
                  <a:pt x="10797" y="14482"/>
                  <a:pt x="11833" y="14482"/>
                </a:cubicBezTo>
                <a:lnTo>
                  <a:pt x="13495" y="14482"/>
                </a:lnTo>
                <a:cubicBezTo>
                  <a:pt x="14531" y="14482"/>
                  <a:pt x="15332" y="13751"/>
                  <a:pt x="15332" y="12828"/>
                </a:cubicBezTo>
                <a:lnTo>
                  <a:pt x="15332" y="7493"/>
                </a:lnTo>
                <a:lnTo>
                  <a:pt x="13495" y="7493"/>
                </a:lnTo>
                <a:lnTo>
                  <a:pt x="17003" y="3985"/>
                </a:lnTo>
                <a:lnTo>
                  <a:pt x="20676" y="7493"/>
                </a:lnTo>
                <a:lnTo>
                  <a:pt x="18839" y="7493"/>
                </a:lnTo>
                <a:lnTo>
                  <a:pt x="18839" y="12828"/>
                </a:lnTo>
                <a:cubicBezTo>
                  <a:pt x="18839" y="15596"/>
                  <a:pt x="16263" y="18155"/>
                  <a:pt x="13495" y="18155"/>
                </a:cubicBezTo>
                <a:lnTo>
                  <a:pt x="11833" y="18155"/>
                </a:lnTo>
                <a:cubicBezTo>
                  <a:pt x="9065" y="18155"/>
                  <a:pt x="6489" y="15596"/>
                  <a:pt x="6489" y="12828"/>
                </a:cubicBez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09480" y="541008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: What is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a chloroplast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886200" y="2057400"/>
            <a:ext cx="50292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is plastid is found in plants and contains the enzymes for photosynthesi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37880" y="646128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2C06 Jeopardy Revie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228600" y="2362320"/>
            <a:ext cx="3921120" cy="200016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227520" y="6400080"/>
            <a:ext cx="4620240" cy="2462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ccff"/>
                </a:solidFill>
                <a:latin typeface="Arial"/>
              </a:rPr>
              <a:t>http://www.science.siu.edu/plant-biology/PLB117/JPEGs%20CD/0076.JP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iscellaneous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1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>
            <a:hlinkClick r:id="" action="ppaction://hlinkshowjump?jump=previousslide"/>
          </p:cNvPr>
          <p:cNvSpPr/>
          <p:nvPr/>
        </p:nvSpPr>
        <p:spPr>
          <a:xfrm>
            <a:off x="8381880" y="6248520"/>
            <a:ext cx="762120" cy="60948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6" h="21600">
                <a:moveTo>
                  <a:pt x="6497" y="7493"/>
                </a:moveTo>
                <a:lnTo>
                  <a:pt x="10004" y="7493"/>
                </a:lnTo>
                <a:lnTo>
                  <a:pt x="10004" y="12828"/>
                </a:lnTo>
                <a:cubicBezTo>
                  <a:pt x="10004" y="13751"/>
                  <a:pt x="10805" y="14482"/>
                  <a:pt x="11841" y="14482"/>
                </a:cubicBezTo>
                <a:lnTo>
                  <a:pt x="13503" y="14482"/>
                </a:lnTo>
                <a:cubicBezTo>
                  <a:pt x="14539" y="14482"/>
                  <a:pt x="15340" y="13751"/>
                  <a:pt x="15340" y="12828"/>
                </a:cubicBezTo>
                <a:lnTo>
                  <a:pt x="15340" y="7493"/>
                </a:lnTo>
                <a:lnTo>
                  <a:pt x="13503" y="7493"/>
                </a:lnTo>
                <a:lnTo>
                  <a:pt x="17011" y="3985"/>
                </a:lnTo>
                <a:lnTo>
                  <a:pt x="20684" y="7493"/>
                </a:lnTo>
                <a:lnTo>
                  <a:pt x="18847" y="7493"/>
                </a:lnTo>
                <a:lnTo>
                  <a:pt x="18847" y="12828"/>
                </a:lnTo>
                <a:cubicBezTo>
                  <a:pt x="18847" y="15596"/>
                  <a:pt x="16271" y="18155"/>
                  <a:pt x="13503" y="18155"/>
                </a:cubicBezTo>
                <a:lnTo>
                  <a:pt x="11841" y="18155"/>
                </a:lnTo>
                <a:cubicBezTo>
                  <a:pt x="9073" y="18155"/>
                  <a:pt x="6497" y="15596"/>
                  <a:pt x="6497" y="12828"/>
                </a:cubicBez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7200" y="5105520"/>
            <a:ext cx="7543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: Who are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Robert Hooke, Anton von Leeuwenhoek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Matthias Schleiden, Theodor Schwann, Rudolph Virch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09480" y="2057400"/>
            <a:ext cx="7848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Name 2 of the scientists who contributed to our understanding of the CELL 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37880" y="646128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2C06 Jeopardy Revie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93680" y="24224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434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iscellaneous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2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>
            <a:hlinkClick r:id="" action="ppaction://hlinkshowjump?jump=previousslide"/>
          </p:cNvPr>
          <p:cNvSpPr/>
          <p:nvPr/>
        </p:nvSpPr>
        <p:spPr>
          <a:xfrm>
            <a:off x="8380440" y="6243480"/>
            <a:ext cx="762120" cy="60984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6990" h="21600">
                <a:moveTo>
                  <a:pt x="0" y="0"/>
                </a:moveTo>
                <a:lnTo>
                  <a:pt x="26990" y="0"/>
                </a:lnTo>
                <a:lnTo>
                  <a:pt x="26990" y="21600"/>
                </a:lnTo>
                <a:lnTo>
                  <a:pt x="0" y="21600"/>
                </a:lnTo>
                <a:close/>
              </a:path>
              <a:path fill="lightenLess" w="26990" h="21600">
                <a:moveTo>
                  <a:pt x="0" y="0"/>
                </a:moveTo>
                <a:lnTo>
                  <a:pt x="26990" y="0"/>
                </a:lnTo>
                <a:lnTo>
                  <a:pt x="25590" y="1400"/>
                </a:lnTo>
                <a:lnTo>
                  <a:pt x="1400" y="1400"/>
                </a:lnTo>
                <a:close/>
              </a:path>
              <a:path fill="darken" w="26990" h="21600">
                <a:moveTo>
                  <a:pt x="26990" y="0"/>
                </a:moveTo>
                <a:lnTo>
                  <a:pt x="26990" y="21600"/>
                </a:lnTo>
                <a:lnTo>
                  <a:pt x="25590" y="20200"/>
                </a:lnTo>
                <a:lnTo>
                  <a:pt x="25590" y="1400"/>
                </a:lnTo>
                <a:close/>
              </a:path>
              <a:path fill="darkenLess" w="26990" h="21600">
                <a:moveTo>
                  <a:pt x="269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0" y="20200"/>
                </a:lnTo>
                <a:close/>
              </a:path>
              <a:path fill="lighten" w="269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90" h="21600">
                <a:moveTo>
                  <a:pt x="6489" y="7493"/>
                </a:moveTo>
                <a:lnTo>
                  <a:pt x="9996" y="7493"/>
                </a:lnTo>
                <a:lnTo>
                  <a:pt x="9996" y="12828"/>
                </a:lnTo>
                <a:cubicBezTo>
                  <a:pt x="9996" y="13751"/>
                  <a:pt x="10797" y="14482"/>
                  <a:pt x="11833" y="14482"/>
                </a:cubicBezTo>
                <a:lnTo>
                  <a:pt x="13495" y="14482"/>
                </a:lnTo>
                <a:cubicBezTo>
                  <a:pt x="14531" y="14482"/>
                  <a:pt x="15332" y="13751"/>
                  <a:pt x="15332" y="12828"/>
                </a:cubicBezTo>
                <a:lnTo>
                  <a:pt x="15332" y="7493"/>
                </a:lnTo>
                <a:lnTo>
                  <a:pt x="13495" y="7493"/>
                </a:lnTo>
                <a:lnTo>
                  <a:pt x="17003" y="3985"/>
                </a:lnTo>
                <a:lnTo>
                  <a:pt x="20676" y="7493"/>
                </a:lnTo>
                <a:lnTo>
                  <a:pt x="18839" y="7493"/>
                </a:lnTo>
                <a:lnTo>
                  <a:pt x="18839" y="12828"/>
                </a:lnTo>
                <a:cubicBezTo>
                  <a:pt x="18839" y="15596"/>
                  <a:pt x="16263" y="18155"/>
                  <a:pt x="13495" y="18155"/>
                </a:cubicBezTo>
                <a:lnTo>
                  <a:pt x="11833" y="18155"/>
                </a:lnTo>
                <a:cubicBezTo>
                  <a:pt x="9065" y="18155"/>
                  <a:pt x="6489" y="15596"/>
                  <a:pt x="6489" y="12828"/>
                </a:cubicBez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09480" y="518148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: What is 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TP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33520" y="3352680"/>
            <a:ext cx="7315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Name this molecule used by mitochondria to store energ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38240" y="6461280"/>
            <a:ext cx="1056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ccff"/>
                </a:solidFill>
                <a:latin typeface="Times New Roman"/>
              </a:rPr>
              <a:t>Image by Riedel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4419720" y="1143000"/>
            <a:ext cx="4343400" cy="214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iscellaneous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3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>
            <a:hlinkClick r:id="" action="ppaction://hlinkshowjump?jump=previousslide"/>
          </p:cNvPr>
          <p:cNvSpPr/>
          <p:nvPr/>
        </p:nvSpPr>
        <p:spPr>
          <a:xfrm>
            <a:off x="8380440" y="6243480"/>
            <a:ext cx="762120" cy="60984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6990" h="21600">
                <a:moveTo>
                  <a:pt x="0" y="0"/>
                </a:moveTo>
                <a:lnTo>
                  <a:pt x="26990" y="0"/>
                </a:lnTo>
                <a:lnTo>
                  <a:pt x="26990" y="21600"/>
                </a:lnTo>
                <a:lnTo>
                  <a:pt x="0" y="21600"/>
                </a:lnTo>
                <a:close/>
              </a:path>
              <a:path fill="lightenLess" w="26990" h="21600">
                <a:moveTo>
                  <a:pt x="0" y="0"/>
                </a:moveTo>
                <a:lnTo>
                  <a:pt x="26990" y="0"/>
                </a:lnTo>
                <a:lnTo>
                  <a:pt x="25590" y="1400"/>
                </a:lnTo>
                <a:lnTo>
                  <a:pt x="1400" y="1400"/>
                </a:lnTo>
                <a:close/>
              </a:path>
              <a:path fill="darken" w="26990" h="21600">
                <a:moveTo>
                  <a:pt x="26990" y="0"/>
                </a:moveTo>
                <a:lnTo>
                  <a:pt x="26990" y="21600"/>
                </a:lnTo>
                <a:lnTo>
                  <a:pt x="25590" y="20200"/>
                </a:lnTo>
                <a:lnTo>
                  <a:pt x="25590" y="1400"/>
                </a:lnTo>
                <a:close/>
              </a:path>
              <a:path fill="darkenLess" w="26990" h="21600">
                <a:moveTo>
                  <a:pt x="269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0" y="20200"/>
                </a:lnTo>
                <a:close/>
              </a:path>
              <a:path fill="lighten" w="269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90" h="21600">
                <a:moveTo>
                  <a:pt x="6489" y="7493"/>
                </a:moveTo>
                <a:lnTo>
                  <a:pt x="9996" y="7493"/>
                </a:lnTo>
                <a:lnTo>
                  <a:pt x="9996" y="12828"/>
                </a:lnTo>
                <a:cubicBezTo>
                  <a:pt x="9996" y="13751"/>
                  <a:pt x="10797" y="14482"/>
                  <a:pt x="11833" y="14482"/>
                </a:cubicBezTo>
                <a:lnTo>
                  <a:pt x="13495" y="14482"/>
                </a:lnTo>
                <a:cubicBezTo>
                  <a:pt x="14531" y="14482"/>
                  <a:pt x="15332" y="13751"/>
                  <a:pt x="15332" y="12828"/>
                </a:cubicBezTo>
                <a:lnTo>
                  <a:pt x="15332" y="7493"/>
                </a:lnTo>
                <a:lnTo>
                  <a:pt x="13495" y="7493"/>
                </a:lnTo>
                <a:lnTo>
                  <a:pt x="17003" y="3985"/>
                </a:lnTo>
                <a:lnTo>
                  <a:pt x="20676" y="7493"/>
                </a:lnTo>
                <a:lnTo>
                  <a:pt x="18839" y="7493"/>
                </a:lnTo>
                <a:lnTo>
                  <a:pt x="18839" y="12828"/>
                </a:lnTo>
                <a:cubicBezTo>
                  <a:pt x="18839" y="15596"/>
                  <a:pt x="16263" y="18155"/>
                  <a:pt x="13495" y="18155"/>
                </a:cubicBezTo>
                <a:lnTo>
                  <a:pt x="11833" y="18155"/>
                </a:lnTo>
                <a:cubicBezTo>
                  <a:pt x="9065" y="18155"/>
                  <a:pt x="6489" y="15596"/>
                  <a:pt x="6489" y="12828"/>
                </a:cubicBez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80880" y="563868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: What is 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POPTOSI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838080" y="2590920"/>
            <a:ext cx="76201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37880" y="646128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2C06 Jeopardy Revie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79320" y="2514600"/>
            <a:ext cx="7486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programmed death of a cell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for the good of the organis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iscellaneous?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4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>
            <a:hlinkClick r:id="" action="ppaction://hlinkshowjump?jump=previousslide"/>
          </p:cNvPr>
          <p:cNvSpPr/>
          <p:nvPr/>
        </p:nvSpPr>
        <p:spPr>
          <a:xfrm>
            <a:off x="8380440" y="6243480"/>
            <a:ext cx="762120" cy="60984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6990" h="21600">
                <a:moveTo>
                  <a:pt x="0" y="0"/>
                </a:moveTo>
                <a:lnTo>
                  <a:pt x="26990" y="0"/>
                </a:lnTo>
                <a:lnTo>
                  <a:pt x="26990" y="21600"/>
                </a:lnTo>
                <a:lnTo>
                  <a:pt x="0" y="21600"/>
                </a:lnTo>
                <a:close/>
              </a:path>
              <a:path fill="lightenLess" w="26990" h="21600">
                <a:moveTo>
                  <a:pt x="0" y="0"/>
                </a:moveTo>
                <a:lnTo>
                  <a:pt x="26990" y="0"/>
                </a:lnTo>
                <a:lnTo>
                  <a:pt x="25590" y="1400"/>
                </a:lnTo>
                <a:lnTo>
                  <a:pt x="1400" y="1400"/>
                </a:lnTo>
                <a:close/>
              </a:path>
              <a:path fill="darken" w="26990" h="21600">
                <a:moveTo>
                  <a:pt x="26990" y="0"/>
                </a:moveTo>
                <a:lnTo>
                  <a:pt x="26990" y="21600"/>
                </a:lnTo>
                <a:lnTo>
                  <a:pt x="25590" y="20200"/>
                </a:lnTo>
                <a:lnTo>
                  <a:pt x="25590" y="1400"/>
                </a:lnTo>
                <a:close/>
              </a:path>
              <a:path fill="darkenLess" w="26990" h="21600">
                <a:moveTo>
                  <a:pt x="269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0" y="20200"/>
                </a:lnTo>
                <a:close/>
              </a:path>
              <a:path fill="lighten" w="269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90" h="21600">
                <a:moveTo>
                  <a:pt x="6489" y="7493"/>
                </a:moveTo>
                <a:lnTo>
                  <a:pt x="9996" y="7493"/>
                </a:lnTo>
                <a:lnTo>
                  <a:pt x="9996" y="12828"/>
                </a:lnTo>
                <a:cubicBezTo>
                  <a:pt x="9996" y="13751"/>
                  <a:pt x="10797" y="14482"/>
                  <a:pt x="11833" y="14482"/>
                </a:cubicBezTo>
                <a:lnTo>
                  <a:pt x="13495" y="14482"/>
                </a:lnTo>
                <a:cubicBezTo>
                  <a:pt x="14531" y="14482"/>
                  <a:pt x="15332" y="13751"/>
                  <a:pt x="15332" y="12828"/>
                </a:cubicBezTo>
                <a:lnTo>
                  <a:pt x="15332" y="7493"/>
                </a:lnTo>
                <a:lnTo>
                  <a:pt x="13495" y="7493"/>
                </a:lnTo>
                <a:lnTo>
                  <a:pt x="17003" y="3985"/>
                </a:lnTo>
                <a:lnTo>
                  <a:pt x="20676" y="7493"/>
                </a:lnTo>
                <a:lnTo>
                  <a:pt x="18839" y="7493"/>
                </a:lnTo>
                <a:lnTo>
                  <a:pt x="18839" y="12828"/>
                </a:lnTo>
                <a:cubicBezTo>
                  <a:pt x="18839" y="15596"/>
                  <a:pt x="16263" y="18155"/>
                  <a:pt x="13495" y="18155"/>
                </a:cubicBezTo>
                <a:lnTo>
                  <a:pt x="11833" y="18155"/>
                </a:lnTo>
                <a:cubicBezTo>
                  <a:pt x="9065" y="18155"/>
                  <a:pt x="6489" y="15596"/>
                  <a:pt x="6489" y="12828"/>
                </a:cubicBez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0880" y="4800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: What is 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lan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838080" y="2057400"/>
            <a:ext cx="77724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This cell is the largest.</a:t>
            </a:r>
            <a:br>
              <a:rPr sz="4800"/>
            </a:b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Plant       Animal      Bacteri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37880" y="646128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2C06 Jeopardy Revie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iscellaneous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5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>
            <a:hlinkClick r:id="" action="ppaction://hlinkshowjump?jump=previousslide"/>
          </p:cNvPr>
          <p:cNvSpPr/>
          <p:nvPr/>
        </p:nvSpPr>
        <p:spPr>
          <a:xfrm>
            <a:off x="8380440" y="6243480"/>
            <a:ext cx="762120" cy="60984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6990" h="21600">
                <a:moveTo>
                  <a:pt x="0" y="0"/>
                </a:moveTo>
                <a:lnTo>
                  <a:pt x="26990" y="0"/>
                </a:lnTo>
                <a:lnTo>
                  <a:pt x="26990" y="21600"/>
                </a:lnTo>
                <a:lnTo>
                  <a:pt x="0" y="21600"/>
                </a:lnTo>
                <a:close/>
              </a:path>
              <a:path fill="lightenLess" w="26990" h="21600">
                <a:moveTo>
                  <a:pt x="0" y="0"/>
                </a:moveTo>
                <a:lnTo>
                  <a:pt x="26990" y="0"/>
                </a:lnTo>
                <a:lnTo>
                  <a:pt x="25590" y="1400"/>
                </a:lnTo>
                <a:lnTo>
                  <a:pt x="1400" y="1400"/>
                </a:lnTo>
                <a:close/>
              </a:path>
              <a:path fill="darken" w="26990" h="21600">
                <a:moveTo>
                  <a:pt x="26990" y="0"/>
                </a:moveTo>
                <a:lnTo>
                  <a:pt x="26990" y="21600"/>
                </a:lnTo>
                <a:lnTo>
                  <a:pt x="25590" y="20200"/>
                </a:lnTo>
                <a:lnTo>
                  <a:pt x="25590" y="1400"/>
                </a:lnTo>
                <a:close/>
              </a:path>
              <a:path fill="darkenLess" w="26990" h="21600">
                <a:moveTo>
                  <a:pt x="269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0" y="20200"/>
                </a:lnTo>
                <a:close/>
              </a:path>
              <a:path fill="lighten" w="269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90" h="21600">
                <a:moveTo>
                  <a:pt x="6489" y="7493"/>
                </a:moveTo>
                <a:lnTo>
                  <a:pt x="9996" y="7493"/>
                </a:lnTo>
                <a:lnTo>
                  <a:pt x="9996" y="12828"/>
                </a:lnTo>
                <a:cubicBezTo>
                  <a:pt x="9996" y="13751"/>
                  <a:pt x="10797" y="14482"/>
                  <a:pt x="11833" y="14482"/>
                </a:cubicBezTo>
                <a:lnTo>
                  <a:pt x="13495" y="14482"/>
                </a:lnTo>
                <a:cubicBezTo>
                  <a:pt x="14531" y="14482"/>
                  <a:pt x="15332" y="13751"/>
                  <a:pt x="15332" y="12828"/>
                </a:cubicBezTo>
                <a:lnTo>
                  <a:pt x="15332" y="7493"/>
                </a:lnTo>
                <a:lnTo>
                  <a:pt x="13495" y="7493"/>
                </a:lnTo>
                <a:lnTo>
                  <a:pt x="17003" y="3985"/>
                </a:lnTo>
                <a:lnTo>
                  <a:pt x="20676" y="7493"/>
                </a:lnTo>
                <a:lnTo>
                  <a:pt x="18839" y="7493"/>
                </a:lnTo>
                <a:lnTo>
                  <a:pt x="18839" y="12828"/>
                </a:lnTo>
                <a:cubicBezTo>
                  <a:pt x="18839" y="15596"/>
                  <a:pt x="16263" y="18155"/>
                  <a:pt x="13495" y="18155"/>
                </a:cubicBezTo>
                <a:lnTo>
                  <a:pt x="11833" y="18155"/>
                </a:lnTo>
                <a:cubicBezTo>
                  <a:pt x="9065" y="18155"/>
                  <a:pt x="6489" y="15596"/>
                  <a:pt x="6489" y="12828"/>
                </a:cubicBez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57200" y="4724280"/>
            <a:ext cx="754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: What is a 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prokaryote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" y="2057400"/>
            <a:ext cx="76201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Kind of cell that has a cell membrane, DNA, and ribosomes, but no other organelles surrounded by membra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37880" y="646128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2C06 Jeopardy Revie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Organelles</a:t>
            </a:r>
            <a:br>
              <a:rPr sz="60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1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>
            <a:hlinkClick r:id="" action="ppaction://hlinkshowjump?jump=previousslide"/>
          </p:cNvPr>
          <p:cNvSpPr/>
          <p:nvPr/>
        </p:nvSpPr>
        <p:spPr>
          <a:xfrm>
            <a:off x="8381880" y="6248520"/>
            <a:ext cx="762120" cy="60948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6" h="21600">
                <a:moveTo>
                  <a:pt x="6497" y="7493"/>
                </a:moveTo>
                <a:lnTo>
                  <a:pt x="10004" y="7493"/>
                </a:lnTo>
                <a:lnTo>
                  <a:pt x="10004" y="12828"/>
                </a:lnTo>
                <a:cubicBezTo>
                  <a:pt x="10004" y="13751"/>
                  <a:pt x="10805" y="14482"/>
                  <a:pt x="11841" y="14482"/>
                </a:cubicBezTo>
                <a:lnTo>
                  <a:pt x="13503" y="14482"/>
                </a:lnTo>
                <a:cubicBezTo>
                  <a:pt x="14539" y="14482"/>
                  <a:pt x="15340" y="13751"/>
                  <a:pt x="15340" y="12828"/>
                </a:cubicBezTo>
                <a:lnTo>
                  <a:pt x="15340" y="7493"/>
                </a:lnTo>
                <a:lnTo>
                  <a:pt x="13503" y="7493"/>
                </a:lnTo>
                <a:lnTo>
                  <a:pt x="17011" y="3985"/>
                </a:lnTo>
                <a:lnTo>
                  <a:pt x="20684" y="7493"/>
                </a:lnTo>
                <a:lnTo>
                  <a:pt x="18847" y="7493"/>
                </a:lnTo>
                <a:lnTo>
                  <a:pt x="18847" y="12828"/>
                </a:lnTo>
                <a:cubicBezTo>
                  <a:pt x="18847" y="15596"/>
                  <a:pt x="16271" y="18155"/>
                  <a:pt x="13503" y="18155"/>
                </a:cubicBezTo>
                <a:lnTo>
                  <a:pt x="11841" y="18155"/>
                </a:lnTo>
                <a:cubicBezTo>
                  <a:pt x="9073" y="18155"/>
                  <a:pt x="6497" y="15596"/>
                  <a:pt x="6497" y="12828"/>
                </a:cubicBez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80880" y="2590920"/>
            <a:ext cx="80773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is bilayer (made of lipids and proteins) surrounds the outside of all cell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62120" y="510552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: What is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Cell membrane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37880" y="646128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2C06 Jeopardy Revie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Organelles</a:t>
            </a:r>
            <a:br>
              <a:rPr sz="60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2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>
            <a:hlinkClick r:id="" action="ppaction://hlinkshowjump?jump=previousslide"/>
          </p:cNvPr>
          <p:cNvSpPr/>
          <p:nvPr/>
        </p:nvSpPr>
        <p:spPr>
          <a:xfrm>
            <a:off x="8380440" y="6243480"/>
            <a:ext cx="762120" cy="60984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6990" h="21600">
                <a:moveTo>
                  <a:pt x="0" y="0"/>
                </a:moveTo>
                <a:lnTo>
                  <a:pt x="26990" y="0"/>
                </a:lnTo>
                <a:lnTo>
                  <a:pt x="26990" y="21600"/>
                </a:lnTo>
                <a:lnTo>
                  <a:pt x="0" y="21600"/>
                </a:lnTo>
                <a:close/>
              </a:path>
              <a:path fill="lightenLess" w="26990" h="21600">
                <a:moveTo>
                  <a:pt x="0" y="0"/>
                </a:moveTo>
                <a:lnTo>
                  <a:pt x="26990" y="0"/>
                </a:lnTo>
                <a:lnTo>
                  <a:pt x="25590" y="1400"/>
                </a:lnTo>
                <a:lnTo>
                  <a:pt x="1400" y="1400"/>
                </a:lnTo>
                <a:close/>
              </a:path>
              <a:path fill="darken" w="26990" h="21600">
                <a:moveTo>
                  <a:pt x="26990" y="0"/>
                </a:moveTo>
                <a:lnTo>
                  <a:pt x="26990" y="21600"/>
                </a:lnTo>
                <a:lnTo>
                  <a:pt x="25590" y="20200"/>
                </a:lnTo>
                <a:lnTo>
                  <a:pt x="25590" y="1400"/>
                </a:lnTo>
                <a:close/>
              </a:path>
              <a:path fill="darkenLess" w="26990" h="21600">
                <a:moveTo>
                  <a:pt x="269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0" y="20200"/>
                </a:lnTo>
                <a:close/>
              </a:path>
              <a:path fill="lighten" w="269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90" h="21600">
                <a:moveTo>
                  <a:pt x="6489" y="7493"/>
                </a:moveTo>
                <a:lnTo>
                  <a:pt x="9996" y="7493"/>
                </a:lnTo>
                <a:lnTo>
                  <a:pt x="9996" y="12828"/>
                </a:lnTo>
                <a:cubicBezTo>
                  <a:pt x="9996" y="13751"/>
                  <a:pt x="10797" y="14482"/>
                  <a:pt x="11833" y="14482"/>
                </a:cubicBezTo>
                <a:lnTo>
                  <a:pt x="13495" y="14482"/>
                </a:lnTo>
                <a:cubicBezTo>
                  <a:pt x="14531" y="14482"/>
                  <a:pt x="15332" y="13751"/>
                  <a:pt x="15332" y="12828"/>
                </a:cubicBezTo>
                <a:lnTo>
                  <a:pt x="15332" y="7493"/>
                </a:lnTo>
                <a:lnTo>
                  <a:pt x="13495" y="7493"/>
                </a:lnTo>
                <a:lnTo>
                  <a:pt x="17003" y="3985"/>
                </a:lnTo>
                <a:lnTo>
                  <a:pt x="20676" y="7493"/>
                </a:lnTo>
                <a:lnTo>
                  <a:pt x="18839" y="7493"/>
                </a:lnTo>
                <a:lnTo>
                  <a:pt x="18839" y="12828"/>
                </a:lnTo>
                <a:cubicBezTo>
                  <a:pt x="18839" y="15596"/>
                  <a:pt x="16263" y="18155"/>
                  <a:pt x="13495" y="18155"/>
                </a:cubicBezTo>
                <a:lnTo>
                  <a:pt x="11833" y="18155"/>
                </a:lnTo>
                <a:cubicBezTo>
                  <a:pt x="9065" y="18155"/>
                  <a:pt x="6489" y="15596"/>
                  <a:pt x="6489" y="12828"/>
                </a:cubicBez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62120" y="510552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: What is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nucleus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38080" y="2590920"/>
            <a:ext cx="7620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is organelle is the “control center” of the cell and contains its DNA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37880" y="646128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2C06 Jeopardy Revie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Organelles</a:t>
            </a:r>
            <a:br>
              <a:rPr sz="60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3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>
            <a:hlinkClick r:id="" action="ppaction://hlinkshowjump?jump=previousslide"/>
          </p:cNvPr>
          <p:cNvSpPr/>
          <p:nvPr/>
        </p:nvSpPr>
        <p:spPr>
          <a:xfrm>
            <a:off x="8380440" y="6243480"/>
            <a:ext cx="762120" cy="60984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6990" h="21600">
                <a:moveTo>
                  <a:pt x="0" y="0"/>
                </a:moveTo>
                <a:lnTo>
                  <a:pt x="26990" y="0"/>
                </a:lnTo>
                <a:lnTo>
                  <a:pt x="26990" y="21600"/>
                </a:lnTo>
                <a:lnTo>
                  <a:pt x="0" y="21600"/>
                </a:lnTo>
                <a:close/>
              </a:path>
              <a:path fill="lightenLess" w="26990" h="21600">
                <a:moveTo>
                  <a:pt x="0" y="0"/>
                </a:moveTo>
                <a:lnTo>
                  <a:pt x="26990" y="0"/>
                </a:lnTo>
                <a:lnTo>
                  <a:pt x="25590" y="1400"/>
                </a:lnTo>
                <a:lnTo>
                  <a:pt x="1400" y="1400"/>
                </a:lnTo>
                <a:close/>
              </a:path>
              <a:path fill="darken" w="26990" h="21600">
                <a:moveTo>
                  <a:pt x="26990" y="0"/>
                </a:moveTo>
                <a:lnTo>
                  <a:pt x="26990" y="21600"/>
                </a:lnTo>
                <a:lnTo>
                  <a:pt x="25590" y="20200"/>
                </a:lnTo>
                <a:lnTo>
                  <a:pt x="25590" y="1400"/>
                </a:lnTo>
                <a:close/>
              </a:path>
              <a:path fill="darkenLess" w="26990" h="21600">
                <a:moveTo>
                  <a:pt x="269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0" y="20200"/>
                </a:lnTo>
                <a:close/>
              </a:path>
              <a:path fill="lighten" w="269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90" h="21600">
                <a:moveTo>
                  <a:pt x="6489" y="7493"/>
                </a:moveTo>
                <a:lnTo>
                  <a:pt x="9996" y="7493"/>
                </a:lnTo>
                <a:lnTo>
                  <a:pt x="9996" y="12828"/>
                </a:lnTo>
                <a:cubicBezTo>
                  <a:pt x="9996" y="13751"/>
                  <a:pt x="10797" y="14482"/>
                  <a:pt x="11833" y="14482"/>
                </a:cubicBezTo>
                <a:lnTo>
                  <a:pt x="13495" y="14482"/>
                </a:lnTo>
                <a:cubicBezTo>
                  <a:pt x="14531" y="14482"/>
                  <a:pt x="15332" y="13751"/>
                  <a:pt x="15332" y="12828"/>
                </a:cubicBezTo>
                <a:lnTo>
                  <a:pt x="15332" y="7493"/>
                </a:lnTo>
                <a:lnTo>
                  <a:pt x="13495" y="7493"/>
                </a:lnTo>
                <a:lnTo>
                  <a:pt x="17003" y="3985"/>
                </a:lnTo>
                <a:lnTo>
                  <a:pt x="20676" y="7493"/>
                </a:lnTo>
                <a:lnTo>
                  <a:pt x="18839" y="7493"/>
                </a:lnTo>
                <a:lnTo>
                  <a:pt x="18839" y="12828"/>
                </a:lnTo>
                <a:cubicBezTo>
                  <a:pt x="18839" y="15596"/>
                  <a:pt x="16263" y="18155"/>
                  <a:pt x="13495" y="18155"/>
                </a:cubicBezTo>
                <a:lnTo>
                  <a:pt x="11833" y="18155"/>
                </a:lnTo>
                <a:cubicBezTo>
                  <a:pt x="9065" y="18155"/>
                  <a:pt x="6489" y="15596"/>
                  <a:pt x="6489" y="12828"/>
                </a:cubicBez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62120" y="510552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: What is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mitochondria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133720"/>
            <a:ext cx="88390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is organelle is the “power plant” of the cell burning glucose and storing its energy as ATP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37880" y="646128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2C06 Jeopardy Revie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Organelles</a:t>
            </a:r>
            <a:br>
              <a:rPr sz="60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4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>
            <a:hlinkClick r:id="" action="ppaction://hlinkshowjump?jump=previousslide"/>
          </p:cNvPr>
          <p:cNvSpPr/>
          <p:nvPr/>
        </p:nvSpPr>
        <p:spPr>
          <a:xfrm>
            <a:off x="8380440" y="6243480"/>
            <a:ext cx="762120" cy="60984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6990" h="21600">
                <a:moveTo>
                  <a:pt x="0" y="0"/>
                </a:moveTo>
                <a:lnTo>
                  <a:pt x="26990" y="0"/>
                </a:lnTo>
                <a:lnTo>
                  <a:pt x="26990" y="21600"/>
                </a:lnTo>
                <a:lnTo>
                  <a:pt x="0" y="21600"/>
                </a:lnTo>
                <a:close/>
              </a:path>
              <a:path fill="lightenLess" w="26990" h="21600">
                <a:moveTo>
                  <a:pt x="0" y="0"/>
                </a:moveTo>
                <a:lnTo>
                  <a:pt x="26990" y="0"/>
                </a:lnTo>
                <a:lnTo>
                  <a:pt x="25590" y="1400"/>
                </a:lnTo>
                <a:lnTo>
                  <a:pt x="1400" y="1400"/>
                </a:lnTo>
                <a:close/>
              </a:path>
              <a:path fill="darken" w="26990" h="21600">
                <a:moveTo>
                  <a:pt x="26990" y="0"/>
                </a:moveTo>
                <a:lnTo>
                  <a:pt x="26990" y="21600"/>
                </a:lnTo>
                <a:lnTo>
                  <a:pt x="25590" y="20200"/>
                </a:lnTo>
                <a:lnTo>
                  <a:pt x="25590" y="1400"/>
                </a:lnTo>
                <a:close/>
              </a:path>
              <a:path fill="darkenLess" w="26990" h="21600">
                <a:moveTo>
                  <a:pt x="269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0" y="20200"/>
                </a:lnTo>
                <a:close/>
              </a:path>
              <a:path fill="lighten" w="269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90" h="21600">
                <a:moveTo>
                  <a:pt x="6489" y="7493"/>
                </a:moveTo>
                <a:lnTo>
                  <a:pt x="9996" y="7493"/>
                </a:lnTo>
                <a:lnTo>
                  <a:pt x="9996" y="12828"/>
                </a:lnTo>
                <a:cubicBezTo>
                  <a:pt x="9996" y="13751"/>
                  <a:pt x="10797" y="14482"/>
                  <a:pt x="11833" y="14482"/>
                </a:cubicBezTo>
                <a:lnTo>
                  <a:pt x="13495" y="14482"/>
                </a:lnTo>
                <a:cubicBezTo>
                  <a:pt x="14531" y="14482"/>
                  <a:pt x="15332" y="13751"/>
                  <a:pt x="15332" y="12828"/>
                </a:cubicBezTo>
                <a:lnTo>
                  <a:pt x="15332" y="7493"/>
                </a:lnTo>
                <a:lnTo>
                  <a:pt x="13495" y="7493"/>
                </a:lnTo>
                <a:lnTo>
                  <a:pt x="17003" y="3985"/>
                </a:lnTo>
                <a:lnTo>
                  <a:pt x="20676" y="7493"/>
                </a:lnTo>
                <a:lnTo>
                  <a:pt x="18839" y="7493"/>
                </a:lnTo>
                <a:lnTo>
                  <a:pt x="18839" y="12828"/>
                </a:lnTo>
                <a:cubicBezTo>
                  <a:pt x="18839" y="15596"/>
                  <a:pt x="16263" y="18155"/>
                  <a:pt x="13495" y="18155"/>
                </a:cubicBezTo>
                <a:lnTo>
                  <a:pt x="11833" y="18155"/>
                </a:lnTo>
                <a:cubicBezTo>
                  <a:pt x="9065" y="18155"/>
                  <a:pt x="6489" y="15596"/>
                  <a:pt x="6489" y="12828"/>
                </a:cubicBez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62120" y="510552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: What is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on the ribosome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38080" y="2590920"/>
            <a:ext cx="7620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is is where proteins are made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37880" y="646128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2C06 Jeopardy Revie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Organelles</a:t>
            </a:r>
            <a:br>
              <a:rPr sz="60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5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>
            <a:hlinkClick r:id="" action="ppaction://hlinkshowjump?jump=previousslide"/>
          </p:cNvPr>
          <p:cNvSpPr/>
          <p:nvPr/>
        </p:nvSpPr>
        <p:spPr>
          <a:xfrm>
            <a:off x="8380440" y="6243480"/>
            <a:ext cx="762120" cy="60984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6990" h="21600">
                <a:moveTo>
                  <a:pt x="0" y="0"/>
                </a:moveTo>
                <a:lnTo>
                  <a:pt x="26990" y="0"/>
                </a:lnTo>
                <a:lnTo>
                  <a:pt x="26990" y="21600"/>
                </a:lnTo>
                <a:lnTo>
                  <a:pt x="0" y="21600"/>
                </a:lnTo>
                <a:close/>
              </a:path>
              <a:path fill="lightenLess" w="26990" h="21600">
                <a:moveTo>
                  <a:pt x="0" y="0"/>
                </a:moveTo>
                <a:lnTo>
                  <a:pt x="26990" y="0"/>
                </a:lnTo>
                <a:lnTo>
                  <a:pt x="25590" y="1400"/>
                </a:lnTo>
                <a:lnTo>
                  <a:pt x="1400" y="1400"/>
                </a:lnTo>
                <a:close/>
              </a:path>
              <a:path fill="darken" w="26990" h="21600">
                <a:moveTo>
                  <a:pt x="26990" y="0"/>
                </a:moveTo>
                <a:lnTo>
                  <a:pt x="26990" y="21600"/>
                </a:lnTo>
                <a:lnTo>
                  <a:pt x="25590" y="20200"/>
                </a:lnTo>
                <a:lnTo>
                  <a:pt x="25590" y="1400"/>
                </a:lnTo>
                <a:close/>
              </a:path>
              <a:path fill="darkenLess" w="26990" h="21600">
                <a:moveTo>
                  <a:pt x="269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0" y="20200"/>
                </a:lnTo>
                <a:close/>
              </a:path>
              <a:path fill="lighten" w="269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90" h="21600">
                <a:moveTo>
                  <a:pt x="6489" y="7493"/>
                </a:moveTo>
                <a:lnTo>
                  <a:pt x="9996" y="7493"/>
                </a:lnTo>
                <a:lnTo>
                  <a:pt x="9996" y="12828"/>
                </a:lnTo>
                <a:cubicBezTo>
                  <a:pt x="9996" y="13751"/>
                  <a:pt x="10797" y="14482"/>
                  <a:pt x="11833" y="14482"/>
                </a:cubicBezTo>
                <a:lnTo>
                  <a:pt x="13495" y="14482"/>
                </a:lnTo>
                <a:cubicBezTo>
                  <a:pt x="14531" y="14482"/>
                  <a:pt x="15332" y="13751"/>
                  <a:pt x="15332" y="12828"/>
                </a:cubicBezTo>
                <a:lnTo>
                  <a:pt x="15332" y="7493"/>
                </a:lnTo>
                <a:lnTo>
                  <a:pt x="13495" y="7493"/>
                </a:lnTo>
                <a:lnTo>
                  <a:pt x="17003" y="3985"/>
                </a:lnTo>
                <a:lnTo>
                  <a:pt x="20676" y="7493"/>
                </a:lnTo>
                <a:lnTo>
                  <a:pt x="18839" y="7493"/>
                </a:lnTo>
                <a:lnTo>
                  <a:pt x="18839" y="12828"/>
                </a:lnTo>
                <a:cubicBezTo>
                  <a:pt x="18839" y="15596"/>
                  <a:pt x="16263" y="18155"/>
                  <a:pt x="13495" y="18155"/>
                </a:cubicBezTo>
                <a:lnTo>
                  <a:pt x="11833" y="18155"/>
                </a:lnTo>
                <a:cubicBezTo>
                  <a:pt x="9065" y="18155"/>
                  <a:pt x="6489" y="15596"/>
                  <a:pt x="6489" y="12828"/>
                </a:cubicBez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62120" y="510552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: What is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a lysosome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2590920"/>
            <a:ext cx="883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is is a sac of digestive enzyme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37880" y="646128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2C06 Jeopardy Revie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Vocabulary</a:t>
            </a:r>
            <a:br>
              <a:rPr sz="60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1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>
            <a:hlinkClick r:id="" action="ppaction://hlinkshowjump?jump=previousslide"/>
          </p:cNvPr>
          <p:cNvSpPr/>
          <p:nvPr/>
        </p:nvSpPr>
        <p:spPr>
          <a:xfrm>
            <a:off x="8381880" y="6248520"/>
            <a:ext cx="762120" cy="60948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6" h="21600">
                <a:moveTo>
                  <a:pt x="6497" y="7493"/>
                </a:moveTo>
                <a:lnTo>
                  <a:pt x="10004" y="7493"/>
                </a:lnTo>
                <a:lnTo>
                  <a:pt x="10004" y="12828"/>
                </a:lnTo>
                <a:cubicBezTo>
                  <a:pt x="10004" y="13751"/>
                  <a:pt x="10805" y="14482"/>
                  <a:pt x="11841" y="14482"/>
                </a:cubicBezTo>
                <a:lnTo>
                  <a:pt x="13503" y="14482"/>
                </a:lnTo>
                <a:cubicBezTo>
                  <a:pt x="14539" y="14482"/>
                  <a:pt x="15340" y="13751"/>
                  <a:pt x="15340" y="12828"/>
                </a:cubicBezTo>
                <a:lnTo>
                  <a:pt x="15340" y="7493"/>
                </a:lnTo>
                <a:lnTo>
                  <a:pt x="13503" y="7493"/>
                </a:lnTo>
                <a:lnTo>
                  <a:pt x="17011" y="3985"/>
                </a:lnTo>
                <a:lnTo>
                  <a:pt x="20684" y="7493"/>
                </a:lnTo>
                <a:lnTo>
                  <a:pt x="18847" y="7493"/>
                </a:lnTo>
                <a:lnTo>
                  <a:pt x="18847" y="12828"/>
                </a:lnTo>
                <a:cubicBezTo>
                  <a:pt x="18847" y="15596"/>
                  <a:pt x="16271" y="18155"/>
                  <a:pt x="13503" y="18155"/>
                </a:cubicBezTo>
                <a:lnTo>
                  <a:pt x="11841" y="18155"/>
                </a:lnTo>
                <a:cubicBezTo>
                  <a:pt x="9073" y="18155"/>
                  <a:pt x="6497" y="15596"/>
                  <a:pt x="6497" y="12828"/>
                </a:cubicBez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62120" y="510552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: What is a 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UKARYOT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905120" y="2514600"/>
            <a:ext cx="60195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37880" y="646128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2C06 Jeopardy Revie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55760" y="2286000"/>
            <a:ext cx="67690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A cell that has a nucleus 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and organelles surrounded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by membran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Vocabulary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2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>
            <a:hlinkClick r:id="" action="ppaction://hlinkshowjump?jump=previousslide"/>
          </p:cNvPr>
          <p:cNvSpPr/>
          <p:nvPr/>
        </p:nvSpPr>
        <p:spPr>
          <a:xfrm>
            <a:off x="8380440" y="6243480"/>
            <a:ext cx="762120" cy="60984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6990" h="21600">
                <a:moveTo>
                  <a:pt x="0" y="0"/>
                </a:moveTo>
                <a:lnTo>
                  <a:pt x="26990" y="0"/>
                </a:lnTo>
                <a:lnTo>
                  <a:pt x="26990" y="21600"/>
                </a:lnTo>
                <a:lnTo>
                  <a:pt x="0" y="21600"/>
                </a:lnTo>
                <a:close/>
              </a:path>
              <a:path fill="lightenLess" w="26990" h="21600">
                <a:moveTo>
                  <a:pt x="0" y="0"/>
                </a:moveTo>
                <a:lnTo>
                  <a:pt x="26990" y="0"/>
                </a:lnTo>
                <a:lnTo>
                  <a:pt x="25590" y="1400"/>
                </a:lnTo>
                <a:lnTo>
                  <a:pt x="1400" y="1400"/>
                </a:lnTo>
                <a:close/>
              </a:path>
              <a:path fill="darken" w="26990" h="21600">
                <a:moveTo>
                  <a:pt x="26990" y="0"/>
                </a:moveTo>
                <a:lnTo>
                  <a:pt x="26990" y="21600"/>
                </a:lnTo>
                <a:lnTo>
                  <a:pt x="25590" y="20200"/>
                </a:lnTo>
                <a:lnTo>
                  <a:pt x="25590" y="1400"/>
                </a:lnTo>
                <a:close/>
              </a:path>
              <a:path fill="darkenLess" w="26990" h="21600">
                <a:moveTo>
                  <a:pt x="269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0" y="20200"/>
                </a:lnTo>
                <a:close/>
              </a:path>
              <a:path fill="lighten" w="269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90" h="21600">
                <a:moveTo>
                  <a:pt x="6489" y="7493"/>
                </a:moveTo>
                <a:lnTo>
                  <a:pt x="9996" y="7493"/>
                </a:lnTo>
                <a:lnTo>
                  <a:pt x="9996" y="12828"/>
                </a:lnTo>
                <a:cubicBezTo>
                  <a:pt x="9996" y="13751"/>
                  <a:pt x="10797" y="14482"/>
                  <a:pt x="11833" y="14482"/>
                </a:cubicBezTo>
                <a:lnTo>
                  <a:pt x="13495" y="14482"/>
                </a:lnTo>
                <a:cubicBezTo>
                  <a:pt x="14531" y="14482"/>
                  <a:pt x="15332" y="13751"/>
                  <a:pt x="15332" y="12828"/>
                </a:cubicBezTo>
                <a:lnTo>
                  <a:pt x="15332" y="7493"/>
                </a:lnTo>
                <a:lnTo>
                  <a:pt x="13495" y="7493"/>
                </a:lnTo>
                <a:lnTo>
                  <a:pt x="17003" y="3985"/>
                </a:lnTo>
                <a:lnTo>
                  <a:pt x="20676" y="7493"/>
                </a:lnTo>
                <a:lnTo>
                  <a:pt x="18839" y="7493"/>
                </a:lnTo>
                <a:lnTo>
                  <a:pt x="18839" y="12828"/>
                </a:lnTo>
                <a:cubicBezTo>
                  <a:pt x="18839" y="15596"/>
                  <a:pt x="16263" y="18155"/>
                  <a:pt x="13495" y="18155"/>
                </a:cubicBezTo>
                <a:lnTo>
                  <a:pt x="11833" y="18155"/>
                </a:lnTo>
                <a:cubicBezTo>
                  <a:pt x="9065" y="18155"/>
                  <a:pt x="6489" y="15596"/>
                  <a:pt x="6489" y="12828"/>
                </a:cubicBez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62120" y="510552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: What is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CHROMATIN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590920"/>
            <a:ext cx="76201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DNA and proteins spread out in the nucleus of a non-dividing ce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37880" y="646128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2C06 Jeopardy Revie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26T17:56:44Z</dcterms:created>
  <dc:creator>Ken Martin</dc:creator>
  <dc:description/>
  <dc:language>en-US</dc:language>
  <cp:lastModifiedBy>riedellke</cp:lastModifiedBy>
  <dcterms:modified xsi:type="dcterms:W3CDTF">2006-10-03T16:01:53Z</dcterms:modified>
  <cp:revision>82</cp:revision>
  <dc:subject/>
  <dc:title>Semester 2</dc:title>
</cp:coreProperties>
</file>